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24C5-EB8B-4E02-9C70-6EEF276E51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74AD-872D-47A4-B497-BE3FF5CBD554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3263-13EC-46D6-8DEE-A43B7BD2C171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50A6-884E-442A-BF8B-1944616BD49F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permanences SAMU sont en négo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F5A1-7FE7-4A59-B3DF-F516D593820F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8FAF-B52B-4E86-AC76-CF45CF4363F9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EDE4-6F70-499D-B118-9BA44E76FED7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2C51-0A80-4F0F-BDB7-5607612B10E5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433A-E679-4859-98D5-49DC293B2E43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659F-FA0A-4F52-8B67-FB8EBD2B6D3C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78C4-4A2D-4EBF-8ABD-7DFC289B75E2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14040" y="37666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1372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194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48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140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194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48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255-DF18-49BD-972C-021B3E20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9DD-1A19-4509-8D02-02466806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3AB-1BFD-4783-8473-770E74D9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8EA-210B-45E0-A0B0-FBBE3296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122-A615-4661-828E-FA628F20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35812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C1E-A043-4AD1-9BF7-6A283F7D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6F8-C3DA-47B7-B1B1-3CC69BBC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1372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196-E5F6-43EF-A377-513F07A8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2B1-6804-4142-87B2-47F7A4B4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040" y="37666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10C-56C0-4455-891B-58284DDC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1372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8DBE-0AEE-4C50-8F15-696E3942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194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48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0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194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48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C09-2A4B-42B2-8D48-3166B0AA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35812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372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151920" y="990720"/>
            <a:ext cx="8686800" cy="152280"/>
            <a:chOff x="151920" y="990720"/>
            <a:chExt cx="8686800" cy="152280"/>
          </a:xfrm>
        </p:grpSpPr>
        <p:sp>
          <p:nvSpPr>
            <p:cNvPr id="7" name="AutoShape 9"/>
            <p:cNvSpPr/>
            <p:nvPr/>
          </p:nvSpPr>
          <p:spPr>
            <a:xfrm>
              <a:off x="599760" y="990720"/>
              <a:ext cx="8238960" cy="152280"/>
            </a:xfrm>
            <a:prstGeom prst="roundRect">
              <a:avLst>
                <a:gd name="adj" fmla="val 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>
              <a:off x="151560" y="990720"/>
              <a:ext cx="462600" cy="152280"/>
            </a:xfrm>
            <a:prstGeom prst="flowChartDelay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" name="Text Box 13"/>
          <p:cNvSpPr/>
          <p:nvPr/>
        </p:nvSpPr>
        <p:spPr>
          <a:xfrm>
            <a:off x="6156360" y="18900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cc"/>
                </a:solidFill>
                <a:latin typeface="Arial"/>
              </a:rPr>
              <a:t>Contexte de niveau I Ambulances du Maur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" name="Group 9"/>
          <p:cNvGrpSpPr/>
          <p:nvPr/>
        </p:nvGrpSpPr>
        <p:grpSpPr>
          <a:xfrm>
            <a:off x="-36000" y="-6120"/>
            <a:ext cx="874080" cy="844200"/>
            <a:chOff x="-36000" y="-6120"/>
            <a:chExt cx="874080" cy="844200"/>
          </a:xfrm>
        </p:grpSpPr>
        <p:sp>
          <p:nvSpPr>
            <p:cNvPr id="11" name="Forme 2057"/>
            <p:cNvSpPr/>
            <p:nvPr/>
          </p:nvSpPr>
          <p:spPr>
            <a:xfrm>
              <a:off x="488880" y="0"/>
              <a:ext cx="268200" cy="433440"/>
            </a:xfrm>
            <a:prstGeom prst="pie">
              <a:avLst/>
            </a:prstGeom>
            <a:solidFill>
              <a:srgbClr val="c000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Forme 2058"/>
            <p:cNvSpPr/>
            <p:nvPr/>
          </p:nvSpPr>
          <p:spPr>
            <a:xfrm>
              <a:off x="411120" y="315720"/>
              <a:ext cx="426960" cy="3934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Forme 2059"/>
            <p:cNvSpPr/>
            <p:nvPr/>
          </p:nvSpPr>
          <p:spPr>
            <a:xfrm>
              <a:off x="245880" y="311040"/>
              <a:ext cx="257040" cy="504720"/>
            </a:xfrm>
            <a:prstGeom prst="pie">
              <a:avLst/>
            </a:prstGeom>
            <a:solidFill>
              <a:srgbClr val="507c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Forme 2060"/>
            <p:cNvSpPr/>
            <p:nvPr/>
          </p:nvSpPr>
          <p:spPr>
            <a:xfrm rot="1086000">
              <a:off x="0" y="53280"/>
              <a:ext cx="431640" cy="299880"/>
            </a:xfrm>
            <a:prstGeom prst="pie">
              <a:avLst/>
            </a:prstGeom>
            <a:solidFill>
              <a:srgbClr val="cc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Ellipse 2061"/>
            <p:cNvSpPr/>
            <p:nvPr/>
          </p:nvSpPr>
          <p:spPr>
            <a:xfrm>
              <a:off x="331560" y="730440"/>
              <a:ext cx="104760" cy="107640"/>
            </a:xfrm>
            <a:prstGeom prst="ellipse">
              <a:avLst/>
            </a:prstGeom>
            <a:solidFill>
              <a:srgbClr val="c0004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7E6D-61FA-4423-8A6E-C041C2D6AD2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5867280" y="3933720"/>
            <a:ext cx="1057320" cy="932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texte de niveau I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3657600" cy="126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Ambulances du Maurin</a:t>
            </a:r>
            <a:r>
              <a:rPr b="0" lang="fr-FR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3857760" y="2786040"/>
            <a:ext cx="4724280" cy="3591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jet SI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Évolutions du S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éveloppement d’une application autour de la base de donné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e en place d’une solution de géo-localis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herche d’une sol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stion du proj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4737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ctivité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057320" cy="932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1079280" cy="930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971640" y="2924280"/>
            <a:ext cx="1076400" cy="1181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4"/>
          <a:stretch/>
        </p:blipFill>
        <p:spPr>
          <a:xfrm>
            <a:off x="971640" y="4437000"/>
            <a:ext cx="990360" cy="1257480"/>
          </a:xfrm>
          <a:prstGeom prst="rect">
            <a:avLst/>
          </a:prstGeom>
          <a:ln w="0">
            <a:noFill/>
          </a:ln>
        </p:spPr>
      </p:pic>
      <p:sp>
        <p:nvSpPr>
          <p:cNvPr id="113" name="Line 9"/>
          <p:cNvSpPr/>
          <p:nvPr/>
        </p:nvSpPr>
        <p:spPr>
          <a:xfrm>
            <a:off x="2409840" y="1989000"/>
            <a:ext cx="4610160" cy="1582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2484360" y="3645000"/>
            <a:ext cx="45356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2484360" y="3736440"/>
            <a:ext cx="4527720" cy="1420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81400">
            <a:off x="2483640" y="213336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égulier ou exceptionn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 rot="20628600">
            <a:off x="2843640" y="4149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ermane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340000" y="3068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égulier ou exceptionn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ports du SI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es enjeux stratégiques 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méliorer les services rendus aux pati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ieux planifier le travail des employé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minuer les temps d’atten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poser de moyens proportionnés aux besoi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ugmenter le nombre de transpor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osantes du SI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0" y="4149720"/>
            <a:ext cx="2627280" cy="1584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Organisationnels 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Anticipa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Régula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643480" y="1572840"/>
            <a:ext cx="3208680" cy="1120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66"/>
            </a:solidFill>
            <a:round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chnologiques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itement de l’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6156360" y="4076640"/>
            <a:ext cx="2577960" cy="15130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umains 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péten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lationn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Line 9"/>
          <p:cNvSpPr/>
          <p:nvPr/>
        </p:nvSpPr>
        <p:spPr>
          <a:xfrm flipH="1">
            <a:off x="1834920" y="2781360"/>
            <a:ext cx="1081080" cy="143964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Line 11"/>
          <p:cNvSpPr/>
          <p:nvPr/>
        </p:nvSpPr>
        <p:spPr>
          <a:xfrm flipH="1" flipV="1">
            <a:off x="5651280" y="2708280"/>
            <a:ext cx="1081080" cy="151272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Line 12"/>
          <p:cNvSpPr/>
          <p:nvPr/>
        </p:nvSpPr>
        <p:spPr>
          <a:xfrm flipH="1">
            <a:off x="2626920" y="4869000"/>
            <a:ext cx="35290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traint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0" y="4149720"/>
            <a:ext cx="2627280" cy="1584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mporelles 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Astreint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Urgenc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791080" y="1388520"/>
            <a:ext cx="3921480" cy="1273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66"/>
            </a:solidFill>
            <a:round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églementaires et contractuel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Équip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mps de trava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ualification du personn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5688000" y="4076640"/>
            <a:ext cx="3456000" cy="15130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rnes de disponibilité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umain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tériell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1834920" y="2708280"/>
            <a:ext cx="1152360" cy="151272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 flipH="1" flipV="1">
            <a:off x="5940000" y="2781000"/>
            <a:ext cx="792360" cy="136836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 flipH="1">
            <a:off x="2626920" y="4869000"/>
            <a:ext cx="302436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5097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cessus prise en charge d’une mission 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Acteurs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client, régulate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Événement déclencheur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appel [patient/Hopital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Activité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recueil informations sur le transport, recherche disponibilité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Événements résultants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déclenchement d’une mi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production d’un dev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531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cessus prise en charge d’un patient : mission de transpor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Acteur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client, régulateur, ambulanc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Événement déclencheur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demande mission par le régulate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Activité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contrôle des éléments de la mission et réalisation du trans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Événements résultants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</a:t>
            </a:r>
            <a:br>
              <a:rPr sz="2800"/>
            </a:b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compte-rendu au régulate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production des documents de fin de mission (facture, transfert, etc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531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rganisation du planning hebdomadair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cteu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: régulateur, ambulancier, institutionnels (Établissements sanitair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Événement déclencheu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: début période / absence / immobilisation véhic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ctivité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: MAJ du pl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Événement résulta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: Planning mis à jo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lutions applicativ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2640" y="112500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Organisation du planning prévisionnel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- application tableur qui offre une vue « personnel » : constitution des équi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Suivi des missions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– bdd pour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saisie des mis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recherche disponibilité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décompte he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statist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8:45:49Z</dcterms:created>
  <dc:creator>reseaucerta.org</dc:creator>
  <dc:description/>
  <dc:language>en-US</dc:language>
  <cp:lastModifiedBy>CD</cp:lastModifiedBy>
  <dcterms:modified xsi:type="dcterms:W3CDTF">2008-09-12T16:35:51Z</dcterms:modified>
  <cp:revision>21</cp:revision>
  <dc:subject/>
  <dc:title>Contexte de niveau I </dc:title>
</cp:coreProperties>
</file>