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Franklin Gothic Demi Cond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0D70-D741-4650-8022-F5FEFA2BF4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2AF-0777-4E33-B134-9CC7DCF5DC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D1C-4E81-4539-82CD-C548B174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560" y="419076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3CF-C14C-4EDA-B542-6C17B8B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148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AE0-A688-44FF-82CA-E5F93FE2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784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548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056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4784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548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8E8-D7A7-478A-A26D-4AB8FCC6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8BC-A223-4664-9842-4E025CE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CED-EDF9-4CD6-8FE1-11D8422D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8B7-87D4-4FDC-9C78-09CC210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BEC-4D0C-4B75-B346-3FE20D45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484000" y="2743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D96-161C-4174-B879-925C9F70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28F-65DF-4F60-A10E-4C1B2F6B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148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F25-51B5-4D39-851A-FE3A796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87D-86F5-4BB5-A092-B34D7AC0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Franklin Gothic Demi Cond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8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a5a5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Université d’été GSI </a:t>
            </a:r>
            <a:r>
              <a:rPr b="0" lang="fr-FR" sz="1200" spc="-1" strike="noStrike">
                <a:solidFill>
                  <a:srgbClr val="a5a5c3"/>
                </a:solidFill>
                <a:latin typeface="Wingdings 2"/>
                <a:ea typeface="Wingdings 2"/>
              </a:rPr>
              <a:t></a:t>
            </a: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 Aoû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a5a5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A178-C9CE-49D8-B4E5-D9C9506490DF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96960" y="1673280"/>
            <a:ext cx="7296120" cy="88920"/>
          </a:xfrm>
          <a:prstGeom prst="rect">
            <a:avLst/>
          </a:prstGeom>
          <a:solidFill>
            <a:srgbClr val="aaa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14200" y="1968480"/>
            <a:ext cx="1828800" cy="114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1240" y="14335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Franklin Gothic Demi Cond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ubHalfFrame"/>
          <p:cNvSpPr/>
          <p:nvPr/>
        </p:nvSpPr>
        <p:spPr>
          <a:xfrm>
            <a:off x="250920" y="189000"/>
            <a:ext cx="1331640" cy="1295280"/>
          </a:xfrm>
          <a:prstGeom prst="pie">
            <a:avLst/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8360" y="171468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aaaac6"/>
                </a:solidFill>
                <a:latin typeface="Haettenschweiler"/>
              </a:rPr>
              <a:t>Gestion des systèmes d’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718200" y="628920"/>
            <a:ext cx="874080" cy="844200"/>
            <a:chOff x="718200" y="628920"/>
            <a:chExt cx="874080" cy="844200"/>
          </a:xfrm>
        </p:grpSpPr>
        <p:sp>
          <p:nvSpPr>
            <p:cNvPr id="11" name="Puzzle3"/>
            <p:cNvSpPr/>
            <p:nvPr/>
          </p:nvSpPr>
          <p:spPr>
            <a:xfrm>
              <a:off x="1243080" y="635040"/>
              <a:ext cx="268200" cy="43344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Puzzle2"/>
            <p:cNvSpPr/>
            <p:nvPr/>
          </p:nvSpPr>
          <p:spPr>
            <a:xfrm>
              <a:off x="1165320" y="950760"/>
              <a:ext cx="426960" cy="393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Puzzle4"/>
            <p:cNvSpPr/>
            <p:nvPr/>
          </p:nvSpPr>
          <p:spPr>
            <a:xfrm>
              <a:off x="1000080" y="946080"/>
              <a:ext cx="257040" cy="50472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Puzzle1"/>
            <p:cNvSpPr/>
            <p:nvPr/>
          </p:nvSpPr>
          <p:spPr>
            <a:xfrm rot="1086000">
              <a:off x="753840" y="688320"/>
              <a:ext cx="431640" cy="29988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085760" y="1365480"/>
              <a:ext cx="104760" cy="10764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0320" y="3398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990033"/>
                </a:solidFill>
                <a:latin typeface="Haettenschweiler"/>
              </a:rPr>
              <a:t>Le contexte JPE</a:t>
            </a:r>
            <a:endParaRPr b="0" lang="en-US" sz="60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96960" y="1673280"/>
            <a:ext cx="7296120" cy="88920"/>
          </a:xfrm>
          <a:prstGeom prst="rect">
            <a:avLst/>
          </a:prstGeom>
          <a:solidFill>
            <a:srgbClr val="aaa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4200" y="1968480"/>
            <a:ext cx="1828800" cy="114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41240" y="14335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Franklin Gothic Demi Cond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HalfFrame"/>
          <p:cNvSpPr/>
          <p:nvPr/>
        </p:nvSpPr>
        <p:spPr>
          <a:xfrm>
            <a:off x="250920" y="189000"/>
            <a:ext cx="1331640" cy="1295280"/>
          </a:xfrm>
          <a:prstGeom prst="pie">
            <a:avLst/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8360" y="171468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aaaac6"/>
                </a:solidFill>
                <a:latin typeface="Haettenschweiler"/>
              </a:rPr>
              <a:t>Gestion des systèmes d’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"/>
          <p:cNvGrpSpPr/>
          <p:nvPr/>
        </p:nvGrpSpPr>
        <p:grpSpPr>
          <a:xfrm>
            <a:off x="718200" y="628560"/>
            <a:ext cx="874080" cy="844560"/>
            <a:chOff x="718200" y="628560"/>
            <a:chExt cx="874080" cy="844560"/>
          </a:xfrm>
        </p:grpSpPr>
        <p:sp>
          <p:nvSpPr>
            <p:cNvPr id="66" name="Puzzle3"/>
            <p:cNvSpPr/>
            <p:nvPr/>
          </p:nvSpPr>
          <p:spPr>
            <a:xfrm>
              <a:off x="1243080" y="635040"/>
              <a:ext cx="267480" cy="43308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uzzle2"/>
            <p:cNvSpPr/>
            <p:nvPr/>
          </p:nvSpPr>
          <p:spPr>
            <a:xfrm>
              <a:off x="1164960" y="950400"/>
              <a:ext cx="427320" cy="394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uzzle4"/>
            <p:cNvSpPr/>
            <p:nvPr/>
          </p:nvSpPr>
          <p:spPr>
            <a:xfrm>
              <a:off x="999720" y="945720"/>
              <a:ext cx="257400" cy="50436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uzzle1"/>
            <p:cNvSpPr/>
            <p:nvPr/>
          </p:nvSpPr>
          <p:spPr>
            <a:xfrm rot="1086000">
              <a:off x="753840" y="687960"/>
              <a:ext cx="432360" cy="30060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4"/>
            <p:cNvSpPr/>
            <p:nvPr/>
          </p:nvSpPr>
          <p:spPr>
            <a:xfrm>
              <a:off x="1086120" y="1366200"/>
              <a:ext cx="104760" cy="10692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FC2-A593-4152-A2C9-20B6C2C4D3E3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4200" y="1999800"/>
            <a:ext cx="85694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Un site intranet exist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28" name="Image 5" descr="site.gif"/>
          <p:cNvPicPr/>
          <p:nvPr/>
        </p:nvPicPr>
        <p:blipFill>
          <a:blip r:embed="rId1"/>
          <a:stretch/>
        </p:blipFill>
        <p:spPr>
          <a:xfrm>
            <a:off x="1428840" y="3357720"/>
            <a:ext cx="6067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997A-11FB-427C-88B8-1FEE0A97DADC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Réponses aux demandes d’information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33" name="Image 5" descr="info.gif"/>
          <p:cNvPicPr/>
          <p:nvPr/>
        </p:nvPicPr>
        <p:blipFill>
          <a:blip r:embed="rId1"/>
          <a:stretch/>
        </p:blipFill>
        <p:spPr>
          <a:xfrm>
            <a:off x="2071800" y="2786040"/>
            <a:ext cx="3857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A4F-D916-4624-9888-528E65E89160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Inscription de visiteur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38" name="Image 5" descr="inscription.gif"/>
          <p:cNvPicPr/>
          <p:nvPr/>
        </p:nvPicPr>
        <p:blipFill>
          <a:blip r:embed="rId1"/>
          <a:stretch/>
        </p:blipFill>
        <p:spPr>
          <a:xfrm>
            <a:off x="0" y="2857680"/>
            <a:ext cx="86504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A9EC-4AC8-4645-9E15-638332E1007D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Informer les entreprise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43" name="Image 5" descr="entreprises.gif"/>
          <p:cNvPicPr/>
          <p:nvPr/>
        </p:nvPicPr>
        <p:blipFill>
          <a:blip r:embed="rId1"/>
          <a:stretch/>
        </p:blipFill>
        <p:spPr>
          <a:xfrm>
            <a:off x="1357200" y="2643120"/>
            <a:ext cx="607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1E3-0E6B-4810-AD15-3260447CAC7E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 de Dordogn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75" name="Image 12" descr="france.gif"/>
          <p:cNvPicPr/>
          <p:nvPr/>
        </p:nvPicPr>
        <p:blipFill>
          <a:blip r:embed="rId1"/>
          <a:stretch/>
        </p:blipFill>
        <p:spPr>
          <a:xfrm>
            <a:off x="2357280" y="2000160"/>
            <a:ext cx="4810320" cy="4181400"/>
          </a:xfrm>
          <a:prstGeom prst="rect">
            <a:avLst/>
          </a:prstGeom>
          <a:ln w="0">
            <a:noFill/>
          </a:ln>
        </p:spPr>
      </p:pic>
      <p:pic>
        <p:nvPicPr>
          <p:cNvPr id="76" name="Image 13" descr="dordogne.gif"/>
          <p:cNvPicPr/>
          <p:nvPr/>
        </p:nvPicPr>
        <p:blipFill>
          <a:blip r:embed="rId2"/>
          <a:stretch/>
        </p:blipFill>
        <p:spPr>
          <a:xfrm>
            <a:off x="2643120" y="2286000"/>
            <a:ext cx="3762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1BF9-5251-44D5-A4F0-FF95724A112E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 de Dordogn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 Narrow"/>
              </a:rPr>
              <a:t>Les missions de la Chambre de Commerce et d’Industri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ZoneTexte 8"/>
          <p:cNvSpPr/>
          <p:nvPr/>
        </p:nvSpPr>
        <p:spPr>
          <a:xfrm>
            <a:off x="714240" y="28576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a représentation des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725040" y="342900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’information des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0"/>
          <p:cNvSpPr/>
          <p:nvPr/>
        </p:nvSpPr>
        <p:spPr>
          <a:xfrm>
            <a:off x="730440" y="392904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e conseil aux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794160" y="44290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738360" y="507204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’aménagement et la gestion d’infrastructures utiles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développement écono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C0AC-5B3C-4FD4-83D1-DC50925CFB5B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 Narrow"/>
              </a:rPr>
              <a:t>La CCI de Dordogne représente 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ZoneTexte 7"/>
          <p:cNvSpPr/>
          <p:nvPr/>
        </p:nvSpPr>
        <p:spPr>
          <a:xfrm>
            <a:off x="450000" y="300024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6220 entreprises com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518400" y="37148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2874 entreprises industri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9"/>
          <p:cNvSpPr/>
          <p:nvPr/>
        </p:nvSpPr>
        <p:spPr>
          <a:xfrm>
            <a:off x="590760" y="45007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5044 entreprises d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CDE-855E-4560-8F68-431215027D72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499840"/>
            <a:ext cx="70722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Arial"/>
              </a:rPr>
              <a:t>Les activités sont structurées autour de 6 pôles géographiques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6" name="ZoneTexte 7"/>
          <p:cNvSpPr/>
          <p:nvPr/>
        </p:nvSpPr>
        <p:spPr>
          <a:xfrm>
            <a:off x="666000" y="3357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budget de la CCI est de 20 millions d’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8"/>
          <p:cNvSpPr/>
          <p:nvPr/>
        </p:nvSpPr>
        <p:spPr>
          <a:xfrm>
            <a:off x="734040" y="421488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CI emploie 240 collabor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DEA4-6B95-44C9-AA31-01202BF49196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es JP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Les Journées du Patrimoine Economiqu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2" name="ZoneTexte 7"/>
          <p:cNvSpPr/>
          <p:nvPr/>
        </p:nvSpPr>
        <p:spPr>
          <a:xfrm>
            <a:off x="660600" y="28576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s les ans, courant octobre, la CCI organise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 Journées du Patrimoine Econom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822960" y="407196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articuliers peuvent profiter de visites guidées des 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Région et ce, pendant 3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4CD0-A971-47F8-944F-2EDCFD4FF248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Organisation des JPE par la CCI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DEUX PROCESSU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" name="ZoneTexte 7"/>
          <p:cNvSpPr/>
          <p:nvPr/>
        </p:nvSpPr>
        <p:spPr>
          <a:xfrm>
            <a:off x="806760" y="335772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) La préparation des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8"/>
          <p:cNvSpPr/>
          <p:nvPr/>
        </p:nvSpPr>
        <p:spPr>
          <a:xfrm>
            <a:off x="884160" y="450072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) La gestion des inscriptions aux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73B5-D38D-42D0-9867-06A782F1E724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Processus de préparation des visite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Il faut </a:t>
            </a: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1237680" y="3071880"/>
            <a:ext cx="44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 les entreprises pour ac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8"/>
          <p:cNvSpPr/>
          <p:nvPr/>
        </p:nvSpPr>
        <p:spPr>
          <a:xfrm>
            <a:off x="1214280" y="3929040"/>
            <a:ext cx="38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finir le planning des vi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9"/>
          <p:cNvSpPr/>
          <p:nvPr/>
        </p:nvSpPr>
        <p:spPr>
          <a:xfrm>
            <a:off x="1214280" y="485784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noncer le planning au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81AA-79D1-4321-A89D-9E94A3F04471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Processus de gestion des inscription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Il faut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ZoneTexte 7"/>
          <p:cNvSpPr/>
          <p:nvPr/>
        </p:nvSpPr>
        <p:spPr>
          <a:xfrm>
            <a:off x="1143000" y="3286080"/>
            <a:ext cx="68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registrer les inscriptions,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ar téléphone uniqu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8"/>
          <p:cNvSpPr/>
          <p:nvPr/>
        </p:nvSpPr>
        <p:spPr>
          <a:xfrm>
            <a:off x="1143000" y="41432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gnaler les inscriptions aux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1214280" y="5143680"/>
            <a:ext cx="67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venir les inscrits d’une éventuelle annulation de vi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7:30:20Z</dcterms:created>
  <dc:creator>Edith Simon</dc:creator>
  <dc:description/>
  <dc:language>en-US</dc:language>
  <cp:lastModifiedBy>Patrice Grand</cp:lastModifiedBy>
  <dcterms:modified xsi:type="dcterms:W3CDTF">2008-11-03T12:04:59Z</dcterms:modified>
  <cp:revision>44</cp:revision>
  <dc:subject/>
  <dc:title>Université d’été</dc:title>
</cp:coreProperties>
</file>