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DAE1-A093-41AD-9750-06146A50C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126C-CCB9-4948-BF3F-B84679B34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4F65-D7DC-46F3-A76D-52CC4F869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3518-CF35-4FDE-A8A6-43510C81D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30A8-C900-433A-BE5A-CFB41586E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BB93-A444-41D2-8969-B6D388CAB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2F3F-1728-4E07-9B34-4271161A9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A5CA-1C5A-4295-A977-6754326AA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4DF4-AA01-4CD7-BF0A-87E30DDEB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4DE9-9D03-4A68-A83D-C51AB6E1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95F5-0343-4F51-A87B-63E4665DB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F866-34FE-4DF4-99DD-84662A8B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70E3C-EA7B-46BC-A44C-E10752E41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0520" y="150840"/>
            <a:ext cx="6837480" cy="45608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9360" y="4707000"/>
            <a:ext cx="6837480" cy="4699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1187280"/>
            <a:ext cx="666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440" y="1042920"/>
            <a:ext cx="3024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lles d’Armes de Villers lès Na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797360" y="1187280"/>
            <a:ext cx="194472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280" y="1476360"/>
            <a:ext cx="640908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, rue Rodin – 54600 Villers-lès-Na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600" y="1951200"/>
            <a:ext cx="66024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ub d’Escr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8920" y="1165320"/>
            <a:ext cx="1684440" cy="1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49920" y="372960"/>
            <a:ext cx="7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9-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35280" y="2531880"/>
            <a:ext cx="38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 2"/>
                <a:ea typeface="Wingdings 2"/>
              </a:rPr>
              <a:t>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35280" y="8348400"/>
            <a:ext cx="38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 2"/>
                <a:ea typeface="Wingdings 2"/>
              </a:rPr>
              <a:t>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98760" y="6343560"/>
            <a:ext cx="259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12, rue de Marron, 54600 Villers-lès-Na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5400" y="6021360"/>
            <a:ext cx="155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ean-Christophe Berbi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37720" y="665964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4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52600" y="6659640"/>
            <a:ext cx="113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ers-lès-Na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0160" y="7188120"/>
            <a:ext cx="318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uf cent soixante quatre euros et quarante centi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37160" y="7458120"/>
            <a:ext cx="81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/08/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34800" y="695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964,40 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3:44:41Z</dcterms:created>
  <dc:creator>Denis Gallot</dc:creator>
  <dc:description/>
  <dc:language>en-US</dc:language>
  <cp:lastModifiedBy>Denis Gallot</cp:lastModifiedBy>
  <dcterms:modified xsi:type="dcterms:W3CDTF">2009-11-11T14:33:37Z</dcterms:modified>
  <cp:revision>5</cp:revision>
  <dc:subject/>
  <dc:title>Diapositive 1</dc:title>
</cp:coreProperties>
</file>