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4B7-BAD1-4AA9-AE80-CA4A6F17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663-4786-4E3F-A955-034741C9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8CB-A96A-4041-9EE9-D665F72C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943-FBFB-4640-BAC0-4696520A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C79-5CAC-47A2-A538-2888881F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E62-01C8-4B6C-ADF1-A80F68D1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131-2FD6-4D0B-AB3B-6CEA93DA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663-B2F9-47AF-8745-1BE9E219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029-61D3-4605-B13C-7762A85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213-AF14-4F03-ADF4-D034E8F1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EBD-E28B-447B-93E1-951B073E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6F7-9031-41E7-B5A3-37F08E3C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494F-EAB6-4298-A882-BBBC18C29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590920"/>
            <a:ext cx="6858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2590920"/>
            <a:ext cx="1295280" cy="26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lle de réun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053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9560" y="4114800"/>
            <a:ext cx="6858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6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33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8672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1623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volley-ball – VLAN 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41623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badminton VLAN 1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4765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’escrime – VLAN 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476520"/>
            <a:ext cx="2133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volley-ball – VLAN 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7640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4784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15120" y="254628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5732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494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0056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3872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94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82080" y="3352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4819680"/>
            <a:ext cx="83808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6120" y="4933800"/>
            <a:ext cx="10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écran de proj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362720" y="3962520"/>
            <a:ext cx="761760" cy="761760"/>
            <a:chOff x="7362720" y="3962520"/>
            <a:chExt cx="761760" cy="761760"/>
          </a:xfrm>
        </p:grpSpPr>
        <p:sp>
          <p:nvSpPr>
            <p:cNvPr id="73" name=""/>
            <p:cNvSpPr/>
            <p:nvPr/>
          </p:nvSpPr>
          <p:spPr>
            <a:xfrm flipV="1">
              <a:off x="7579800" y="3962520"/>
              <a:ext cx="326160" cy="32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664040" y="4255200"/>
              <a:ext cx="162720" cy="5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362720" y="4344120"/>
              <a:ext cx="2721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52320" y="4344120"/>
              <a:ext cx="2721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08000" y="39718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Vidéo projec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704880" cy="480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42900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1814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35268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106668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362320" y="4410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63244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525780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6324480" y="4410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67480" y="1295280"/>
            <a:ext cx="11430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40" y="2700"/>
                </a:moveTo>
                <a:lnTo>
                  <a:pt x="26460" y="2700"/>
                </a:lnTo>
                <a:lnTo>
                  <a:pt x="26460" y="31988"/>
                </a:lnTo>
                <a:lnTo>
                  <a:pt x="11490" y="4455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rtable Identifi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e faisa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tie de la 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volley p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n adresse 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2578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040" y="52642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ise 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71040" y="525780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ie de brassage de l’é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51051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47:07Z</dcterms:created>
  <dc:creator>adm.gallot</dc:creator>
  <dc:description/>
  <dc:language>en-US</dc:language>
  <cp:lastModifiedBy>DG</cp:lastModifiedBy>
  <dcterms:modified xsi:type="dcterms:W3CDTF">2012-02-24T16:06:25Z</dcterms:modified>
  <cp:revision>10</cp:revision>
  <dc:subject/>
  <dc:title>Diapositive 1</dc:title>
</cp:coreProperties>
</file>