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2C1-4A08-4F4B-943C-57349844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2A1-74B6-4D7B-AD79-F49E2AC2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8E2-1CEF-4203-9821-44C19835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B5A-17AD-46B5-ABA8-49F6A21D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246-9833-4278-B08E-5B1ECA91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A1A-9AA4-40F5-BE17-58580C5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BD0-7670-47FE-8F0D-5E40641D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9EC-F1A5-474A-AA30-27EE057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2FC-A232-4CD4-8BDE-D5150294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AB3-5A3A-49C5-BAF9-92BB99F1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373-0523-4978-91E9-8C57112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C14-261F-4891-B2BC-7D1F42C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528D-8C2D-4C84-A6D8-D175BBDF43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image" Target="../media/image12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3213000"/>
            <a:ext cx="223344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45320" y="316080"/>
            <a:ext cx="1944720" cy="1079280"/>
          </a:xfrm>
          <a:prstGeom prst="triangle">
            <a:avLst>
              <a:gd name="adj" fmla="val 50000"/>
            </a:avLst>
          </a:prstGeom>
          <a:solidFill>
            <a:srgbClr val="fec816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4280" y="1356120"/>
            <a:ext cx="2056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Maison des Lig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73800" y="696960"/>
            <a:ext cx="72072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5400000">
            <a:off x="6337440" y="3683160"/>
            <a:ext cx="5745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2663280" y="4114800"/>
            <a:ext cx="5745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15772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308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12240" y="52912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05280" y="5272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3440" y="45086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1360" y="36212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41640" y="526248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l d’accue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2560" y="3068640"/>
            <a:ext cx="10810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3213000"/>
            <a:ext cx="720720" cy="1152720"/>
          </a:xfrm>
          <a:custGeom>
            <a:avLst/>
            <a:gdLst/>
            <a:ahLst/>
            <a:rect l="l" t="t" r="r" b="b"/>
            <a:pathLst>
              <a:path w="454" h="726">
                <a:moveTo>
                  <a:pt x="0" y="0"/>
                </a:moveTo>
                <a:lnTo>
                  <a:pt x="0" y="635"/>
                </a:lnTo>
                <a:lnTo>
                  <a:pt x="454" y="635"/>
                </a:lnTo>
                <a:lnTo>
                  <a:pt x="454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51280" y="3213000"/>
            <a:ext cx="151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660000" y="4006080"/>
            <a:ext cx="574920" cy="2878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432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224160"/>
            <a:ext cx="2156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3645000"/>
            <a:ext cx="1296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6804720" y="4158000"/>
            <a:ext cx="14292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3213000"/>
            <a:ext cx="129672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3213000"/>
            <a:ext cx="216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3213000"/>
            <a:ext cx="936720" cy="8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4110120"/>
            <a:ext cx="936720" cy="104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3827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16440" y="3284640"/>
            <a:ext cx="69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52080" y="383364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is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200" y="4102200"/>
            <a:ext cx="848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au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ivial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9200" y="3313080"/>
            <a:ext cx="92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am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1563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02000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899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1768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83440" y="51786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40520" y="5178600"/>
            <a:ext cx="6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51768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car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6120" y="397656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hithéâ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9467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49528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178600"/>
            <a:ext cx="22068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516640"/>
            <a:ext cx="50292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9440" y="5519880"/>
            <a:ext cx="65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cense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43545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40388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mé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00840" y="4941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5805360"/>
            <a:ext cx="349200" cy="503280"/>
          </a:xfrm>
          <a:prstGeom prst="upArrow">
            <a:avLst>
              <a:gd name="adj1" fmla="val 26370"/>
              <a:gd name="adj2" fmla="val 582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6160" y="6032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1920" y="3209760"/>
            <a:ext cx="236520" cy="19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05480" y="5121360"/>
            <a:ext cx="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25720" y="5130720"/>
            <a:ext cx="18432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5383080"/>
            <a:ext cx="447840" cy="35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9440" y="538020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9440" y="5273640"/>
            <a:ext cx="2048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28880" y="5170320"/>
            <a:ext cx="42408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6400" y="5157720"/>
            <a:ext cx="566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4840" y="538164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573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7040" y="51577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160" y="5216400"/>
            <a:ext cx="57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ü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23960" y="5456160"/>
            <a:ext cx="13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on  MD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6920" y="4857840"/>
            <a:ext cx="862200" cy="29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5920" y="4876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ong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4960" y="478152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67040" y="483084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graph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68520" y="3137040"/>
            <a:ext cx="5478480" cy="143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28160" y="1540080"/>
            <a:ext cx="260280" cy="46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3716280"/>
            <a:ext cx="6285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20080" y="3429000"/>
            <a:ext cx="79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528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600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0672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1600" y="3144960"/>
            <a:ext cx="752400" cy="58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0640" y="3143160"/>
            <a:ext cx="75240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6528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8600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0672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1600" y="3983040"/>
            <a:ext cx="752400" cy="59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0640" y="3978360"/>
            <a:ext cx="75240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8400" y="28861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tage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564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58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03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2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81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2216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560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684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32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408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02840" y="329724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1880" y="39736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68920" y="354024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’escr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5200" y="4011480"/>
            <a:ext cx="1280880" cy="1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30400" y="354960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84760" y="403236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badmint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2440" y="915840"/>
            <a:ext cx="6800760" cy="329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5480" y="2851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54240" y="260352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01720" y="294012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89040" y="4351320"/>
            <a:ext cx="5095800" cy="132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727440" y="5062680"/>
            <a:ext cx="44784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266920" y="2036880"/>
            <a:ext cx="123840" cy="288720"/>
            <a:chOff x="2266920" y="2036880"/>
            <a:chExt cx="123840" cy="288720"/>
          </a:xfrm>
        </p:grpSpPr>
        <p:sp>
          <p:nvSpPr>
            <p:cNvPr id="144" name=""/>
            <p:cNvSpPr/>
            <p:nvPr/>
          </p:nvSpPr>
          <p:spPr>
            <a:xfrm flipV="1">
              <a:off x="2390760" y="2036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2239920" y="2119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01800" y="3006720"/>
            <a:ext cx="288720" cy="142920"/>
            <a:chOff x="2701800" y="3006720"/>
            <a:chExt cx="288720" cy="142920"/>
          </a:xfrm>
        </p:grpSpPr>
        <p:sp>
          <p:nvSpPr>
            <p:cNvPr id="147" name=""/>
            <p:cNvSpPr/>
            <p:nvPr/>
          </p:nvSpPr>
          <p:spPr>
            <a:xfrm>
              <a:off x="2701800" y="31496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7240" y="3006720"/>
              <a:ext cx="17784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83040" y="3152880"/>
            <a:ext cx="123840" cy="288720"/>
            <a:chOff x="3983040" y="3152880"/>
            <a:chExt cx="123840" cy="288720"/>
          </a:xfrm>
        </p:grpSpPr>
        <p:sp>
          <p:nvSpPr>
            <p:cNvPr id="150" name=""/>
            <p:cNvSpPr/>
            <p:nvPr/>
          </p:nvSpPr>
          <p:spPr>
            <a:xfrm flipV="1">
              <a:off x="3983040" y="3152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3956040" y="3235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443560" y="838080"/>
            <a:ext cx="302580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43560" y="1092240"/>
            <a:ext cx="30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0320" y="130824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7080" y="152388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3840" y="175896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813800" y="1546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651640" y="131616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823160" y="109548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657760" y="865080"/>
            <a:ext cx="447840" cy="201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55600" y="8161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2080" y="10699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62080" y="127944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68200" y="153360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75480" y="200484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ue de face des bâtiments A ou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88120" y="746280"/>
            <a:ext cx="3100320" cy="1746000"/>
          </a:xfrm>
          <a:custGeom>
            <a:avLst/>
            <a:gdLst/>
            <a:ahLst/>
            <a:rect l="l" t="t" r="r" b="b"/>
            <a:pathLst>
              <a:path w="1953" h="1100">
                <a:moveTo>
                  <a:pt x="0" y="0"/>
                </a:moveTo>
                <a:lnTo>
                  <a:pt x="0" y="1100"/>
                </a:lnTo>
                <a:lnTo>
                  <a:pt x="1953" y="1100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47720" y="4378320"/>
            <a:ext cx="582948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3880" y="561960"/>
            <a:ext cx="6801120" cy="329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16720" y="2340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440" y="592452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2480" y="4030560"/>
            <a:ext cx="8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7040" y="120024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-de-chaus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98000" y="184140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 : Baie de Br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006640" y="16732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4241880" y="167940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71280" y="203832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95880" y="2357280"/>
            <a:ext cx="232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de connexion du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64480" y="204624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69712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4320" y="35352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68600" y="4524480"/>
            <a:ext cx="216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 du labo LS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>
            <a:off x="1744560" y="512928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1716120" y="599904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2873520" y="599904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84440" y="489276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2240" y="57308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4319640" y="4911840"/>
            <a:ext cx="11620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No Hope Wireless Access Point Clip Art"/>
          <p:cNvPicPr/>
          <p:nvPr/>
        </p:nvPicPr>
        <p:blipFill>
          <a:blip r:embed="rId20"/>
          <a:stretch/>
        </p:blipFill>
        <p:spPr>
          <a:xfrm>
            <a:off x="3386160" y="289080"/>
            <a:ext cx="460440" cy="496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02200" y="77004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53044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044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089080" y="179064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4976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4976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4278240" y="1806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77640" y="9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7080" y="13320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32920" y="137304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2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16840" y="13176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20480" y="137952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52640" y="1994040"/>
            <a:ext cx="144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8080" y="6015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13320" y="59832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59280" y="700200"/>
          <a:ext cx="90792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70020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861080" y="741240"/>
          <a:ext cx="907920" cy="8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1080" y="74124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621800" y="36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3520" y="16509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50960" y="2595600"/>
            <a:ext cx="2239920" cy="112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83720" y="24300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client Wi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58880" y="37908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814320" y="452412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2292480" y="417672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44600" y="464832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rou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No Hope Wireless Access Point Clip Art"/>
          <p:cNvPicPr/>
          <p:nvPr/>
        </p:nvPicPr>
        <p:blipFill>
          <a:blip r:embed="rId8"/>
          <a:stretch/>
        </p:blipFill>
        <p:spPr>
          <a:xfrm>
            <a:off x="3386160" y="469800"/>
            <a:ext cx="460440" cy="4971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02200" y="95076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832200" y="119160"/>
          <a:ext cx="5446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2200" y="119160"/>
                    <a:ext cx="544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419120" y="749160"/>
          <a:ext cx="908280" cy="84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19120" y="74916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473200" y="770040"/>
          <a:ext cx="908280" cy="84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73200" y="770040"/>
                    <a:ext cx="9082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680200" y="16462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2800" y="159696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7400" y="157464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affich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666960" y="1838160"/>
            <a:ext cx="147168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346200" y="1855800"/>
            <a:ext cx="85068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>
            <a:off x="4002120" y="469908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19480" y="4599000"/>
            <a:ext cx="7858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825280" y="3365640"/>
            <a:ext cx="36540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1880" y="2038320"/>
            <a:ext cx="100080" cy="8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332080" y="2048040"/>
            <a:ext cx="5205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73400" y="1162080"/>
            <a:ext cx="36504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70400" y="273852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3520" y="24829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6"/>
          <a:stretch/>
        </p:blipFill>
        <p:spPr>
          <a:xfrm>
            <a:off x="4529160" y="2863800"/>
            <a:ext cx="1162080" cy="1523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H="1">
            <a:off x="3191040" y="3767040"/>
            <a:ext cx="117936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7040" y="312732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1744560" y="591660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4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5"/>
          <a:stretch/>
        </p:blipFill>
        <p:spPr>
          <a:xfrm>
            <a:off x="4649760" y="5346720"/>
            <a:ext cx="584280" cy="673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6"/>
          <a:stretch/>
        </p:blipFill>
        <p:spPr>
          <a:xfrm>
            <a:off x="4218120" y="5116680"/>
            <a:ext cx="1403280" cy="141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7"/>
          <a:stretch/>
        </p:blipFill>
        <p:spPr>
          <a:xfrm>
            <a:off x="4214880" y="6094440"/>
            <a:ext cx="1403280" cy="141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96880" y="14763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920" y="14716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08160" y="14367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55200" y="14320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814320" y="557496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7960" y="1911240"/>
            <a:ext cx="128520" cy="8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276640" y="1590840"/>
            <a:ext cx="4572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246120" y="1828800"/>
            <a:ext cx="11062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28720" y="1847880"/>
            <a:ext cx="185724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1200" y="33750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20760" y="4307040"/>
            <a:ext cx="0" cy="15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63760" y="428004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94040" y="520236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3120" y="61722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82120" y="490068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70960" y="616572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92640" y="33656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4960" y="33717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46400" y="33624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2:51:51Z</dcterms:created>
  <dc:creator>DG</dc:creator>
  <dc:description/>
  <dc:language>en-US</dc:language>
  <cp:lastModifiedBy>adm.gallot</cp:lastModifiedBy>
  <dcterms:modified xsi:type="dcterms:W3CDTF">2011-05-27T10:22:24Z</dcterms:modified>
  <cp:revision>20</cp:revision>
  <dc:subject/>
  <dc:title>Diapositive 1</dc:title>
</cp:coreProperties>
</file>