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242F-726B-419B-B782-DC052603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CC47-1343-483F-9E25-CCFFEDBF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55DB-88CD-4695-A110-E6E0C039D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6516-3E6A-49F6-BE85-F1D31841F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22A6-4929-4582-86DB-9867AF4F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2F43-F9ED-477C-9D0E-037C1835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5712-F69F-4CB9-B886-3388E50C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D7D5-4CF2-4DB2-B6A0-0D055E3F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D642-32B8-4FC4-8FF4-FC7194D3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E835-C0A9-4943-A4E4-F479DF54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36C1-6F55-44C1-BA9D-48173887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9CB5-CE96-4C80-BE58-80E5FC0D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4EAD-7DFB-4AFD-BC49-6A3E020BE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1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2.png"/><Relationship Id="rId8" Type="http://schemas.openxmlformats.org/officeDocument/2006/relationships/image" Target="../media/image10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3.png"/><Relationship Id="rId12" Type="http://schemas.openxmlformats.org/officeDocument/2006/relationships/image" Target="../media/image15.jpe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jpeg"/><Relationship Id="rId1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000" y="5783400"/>
            <a:ext cx="6184800" cy="1726920"/>
          </a:xfrm>
          <a:prstGeom prst="roundRect">
            <a:avLst>
              <a:gd name="adj" fmla="val 60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9520" y="1909800"/>
            <a:ext cx="2771640" cy="1727280"/>
          </a:xfrm>
          <a:prstGeom prst="roundRect">
            <a:avLst>
              <a:gd name="adj" fmla="val 40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1840" y="3821040"/>
            <a:ext cx="2771640" cy="1728720"/>
          </a:xfrm>
          <a:prstGeom prst="roundRect">
            <a:avLst>
              <a:gd name="adj" fmla="val 40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2040" y="1905120"/>
            <a:ext cx="2772000" cy="1728720"/>
          </a:xfrm>
          <a:prstGeom prst="roundRect">
            <a:avLst>
              <a:gd name="adj" fmla="val 40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29160" y="3841920"/>
            <a:ext cx="2771640" cy="1728720"/>
          </a:xfrm>
          <a:prstGeom prst="roundRect">
            <a:avLst>
              <a:gd name="adj" fmla="val 40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24360" y="7253280"/>
            <a:ext cx="695160" cy="682560"/>
          </a:xfrm>
          <a:prstGeom prst="upArrow">
            <a:avLst>
              <a:gd name="adj1" fmla="val 38481"/>
              <a:gd name="adj2" fmla="val 5138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44960" y="2260440"/>
            <a:ext cx="341280" cy="4024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09800" y="2405160"/>
            <a:ext cx="1049400" cy="814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4300560"/>
            <a:ext cx="1049040" cy="816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5480" y="1878120"/>
            <a:ext cx="14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scrime artist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30080" y="18716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scrime spor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11080" y="3778200"/>
            <a:ext cx="155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space Confé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94720" y="3808440"/>
            <a:ext cx="184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tands équipement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28280" y="7205760"/>
            <a:ext cx="105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apiteau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94200" y="5848200"/>
            <a:ext cx="438120" cy="551160"/>
          </a:xfrm>
          <a:prstGeom prst="upArrow">
            <a:avLst>
              <a:gd name="adj1" fmla="val 53028"/>
              <a:gd name="adj2" fmla="val 42732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20822400">
            <a:off x="3998880" y="6068880"/>
            <a:ext cx="16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space resta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55880" y="5891040"/>
            <a:ext cx="0" cy="155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30640" y="6513480"/>
            <a:ext cx="1049400" cy="40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49320" y="6157800"/>
            <a:ext cx="0" cy="135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0822400">
            <a:off x="2238480" y="6661080"/>
            <a:ext cx="16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space accue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328840" y="7015320"/>
            <a:ext cx="461880" cy="490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495680" y="4465800"/>
            <a:ext cx="462240" cy="492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688000" y="2427120"/>
            <a:ext cx="461880" cy="492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65120" y="2462040"/>
            <a:ext cx="461880" cy="489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93880" y="1474920"/>
            <a:ext cx="439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è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sises nationales de l’Escr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873000" y="6769080"/>
            <a:ext cx="808200" cy="541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249160" y="528804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apiteau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9800" y="525924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apiteau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9977600">
            <a:off x="1940040" y="6267240"/>
            <a:ext cx="914400" cy="1695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0822400">
            <a:off x="344520" y="5785920"/>
            <a:ext cx="16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space organisat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0280" y="6656400"/>
            <a:ext cx="125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0822400">
            <a:off x="360360" y="6897240"/>
            <a:ext cx="44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57000" y="7639200"/>
            <a:ext cx="65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ntré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4276800" y="2495520"/>
            <a:ext cx="1046160" cy="584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1870200" y="2519280"/>
            <a:ext cx="433440" cy="793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5273640" y="4316400"/>
            <a:ext cx="863640" cy="781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541440" y="4300560"/>
            <a:ext cx="650880" cy="736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0"/>
          <a:stretch/>
        </p:blipFill>
        <p:spPr>
          <a:xfrm>
            <a:off x="1730520" y="4361040"/>
            <a:ext cx="461880" cy="488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722040" y="331956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apiteau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1600" y="32940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apiteau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1"/>
          <a:stretch/>
        </p:blipFill>
        <p:spPr>
          <a:xfrm>
            <a:off x="4865760" y="6424560"/>
            <a:ext cx="699840" cy="698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rot="16200000">
            <a:off x="2829960" y="3807000"/>
            <a:ext cx="95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ir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43080" y="5838840"/>
            <a:ext cx="800280" cy="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23600" y="5587920"/>
            <a:ext cx="152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Écran géant d’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 flipH="1" rot="45600">
            <a:off x="4114440" y="1185480"/>
            <a:ext cx="378000" cy="657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456080" y="1246320"/>
            <a:ext cx="714240" cy="7142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344600" y="2009880"/>
            <a:ext cx="0" cy="124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79960" y="1201680"/>
            <a:ext cx="1441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rtable visiteu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SID « public »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lient DHCP vla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160800" y="2695680"/>
            <a:ext cx="766800" cy="812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73480" y="652320"/>
            <a:ext cx="152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nt d’accès wifi (x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25560" y="2298600"/>
            <a:ext cx="142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aison taggué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ur les vlans 2 e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09720" y="6181560"/>
            <a:ext cx="17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teur France 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839880" y="987480"/>
            <a:ext cx="966600" cy="1135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 flipH="1" rot="20853000">
            <a:off x="2958840" y="411120"/>
            <a:ext cx="377640" cy="657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3271680" y="237960"/>
            <a:ext cx="714600" cy="714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724200" y="263520"/>
            <a:ext cx="2041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rtable organisateu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SID « orga »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ent DHCP vla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25560" y="3463920"/>
            <a:ext cx="0" cy="126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6670800"/>
            <a:ext cx="6120" cy="56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82600" y="5321160"/>
            <a:ext cx="0" cy="9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469800" y="6810480"/>
            <a:ext cx="1292400" cy="768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40160" y="7061040"/>
            <a:ext cx="76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46240" y="577836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92.168.1.25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1179360" y="367524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LA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525600" y="365940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LA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7760" y="5329080"/>
            <a:ext cx="4170240" cy="692280"/>
          </a:xfrm>
          <a:prstGeom prst="borderCallout2">
            <a:avLst>
              <a:gd name="adj1" fmla="val 18750"/>
              <a:gd name="adj2" fmla="val -8333"/>
              <a:gd name="adj3" fmla="val 16513"/>
              <a:gd name="adj4" fmla="val -8032"/>
              <a:gd name="adj5" fmla="val -35319"/>
              <a:gd name="adj6" fmla="val -14462"/>
            </a:avLst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teur MD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veur DHCP pour les deux réseaux wifi « public » et « orga »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vice N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09960" y="2049480"/>
            <a:ext cx="4471920" cy="558720"/>
          </a:xfrm>
          <a:prstGeom prst="borderCallout2">
            <a:avLst>
              <a:gd name="adj1" fmla="val 18750"/>
              <a:gd name="adj2" fmla="val -8333"/>
              <a:gd name="adj3" fmla="val 20453"/>
              <a:gd name="adj4" fmla="val -5680"/>
              <a:gd name="adj5" fmla="val -40342"/>
              <a:gd name="adj6" fmla="val -9657"/>
            </a:avLst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SID « admin » non diffusé - WPA2 - VLAN 1 administration– réseau 172.16.0.0/16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SID « orga » non diffusé WPA2 – VLAN 2 - réseau 10.10.10.0/24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SID « public » diffusé WPA2 - VLAN 3 – réseau 172.31.1.0/24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2681280" y="4111560"/>
            <a:ext cx="766800" cy="812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23000" y="5477040"/>
            <a:ext cx="78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92.168.1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Router Clip Art"/>
          <p:cNvPicPr/>
          <p:nvPr/>
        </p:nvPicPr>
        <p:blipFill>
          <a:blip r:embed="rId9"/>
          <a:stretch/>
        </p:blipFill>
        <p:spPr>
          <a:xfrm>
            <a:off x="441360" y="4640400"/>
            <a:ext cx="1625400" cy="892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824040" y="4483080"/>
            <a:ext cx="215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/>
          <p:nvPr/>
        </p:nvCxnSpPr>
        <p:spPr>
          <a:xfrm>
            <a:off x="2435040" y="3241800"/>
            <a:ext cx="811800" cy="3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2200320" y="3438360"/>
            <a:ext cx="674640" cy="7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14440" y="3409920"/>
            <a:ext cx="1800360" cy="101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3371760"/>
            <a:ext cx="2351160" cy="35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0"/>
          <a:stretch/>
        </p:blipFill>
        <p:spPr>
          <a:xfrm>
            <a:off x="184320" y="3056040"/>
            <a:ext cx="2232000" cy="693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960" y="4273560"/>
            <a:ext cx="94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172.31.1.254/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65560" y="4451400"/>
            <a:ext cx="94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10.10.10.254/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98640" y="529416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Router Clip Art"/>
          <p:cNvPicPr/>
          <p:nvPr/>
        </p:nvPicPr>
        <p:blipFill>
          <a:blip r:embed="rId11"/>
          <a:stretch/>
        </p:blipFill>
        <p:spPr>
          <a:xfrm>
            <a:off x="415800" y="6014880"/>
            <a:ext cx="1625760" cy="892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2"/>
          <a:stretch/>
        </p:blipFill>
        <p:spPr>
          <a:xfrm>
            <a:off x="3749760" y="4336920"/>
            <a:ext cx="811080" cy="735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311720" y="4838760"/>
            <a:ext cx="94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hotocop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56760" y="2692440"/>
            <a:ext cx="110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C guichet accue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52760" y="4870440"/>
            <a:ext cx="98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C organis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3"/>
          <a:stretch/>
        </p:blipFill>
        <p:spPr>
          <a:xfrm>
            <a:off x="4075200" y="3218040"/>
            <a:ext cx="776160" cy="776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276640" y="1143000"/>
            <a:ext cx="34765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71680" y="3371760"/>
            <a:ext cx="2743200" cy="10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18800" y="3559320"/>
            <a:ext cx="55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rac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8520" y="2962440"/>
            <a:ext cx="39996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8739200">
            <a:off x="2073600" y="3287520"/>
            <a:ext cx="65736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Vlan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4"/>
          <a:stretch/>
        </p:blipFill>
        <p:spPr>
          <a:xfrm>
            <a:off x="3903840" y="2681280"/>
            <a:ext cx="579240" cy="514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392000" y="2765520"/>
            <a:ext cx="113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mprimante ba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Glossy Tv clip art"/>
          <p:cNvPicPr/>
          <p:nvPr/>
        </p:nvPicPr>
        <p:blipFill>
          <a:blip r:embed="rId15"/>
          <a:stretch/>
        </p:blipFill>
        <p:spPr>
          <a:xfrm>
            <a:off x="5032440" y="3668760"/>
            <a:ext cx="1508040" cy="1128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420520" y="4019400"/>
            <a:ext cx="74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ich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05080" y="3521160"/>
            <a:ext cx="19080" cy="116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04840" y="4276800"/>
            <a:ext cx="698400" cy="123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24720" y="4229280"/>
            <a:ext cx="52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alibri"/>
              </a:rPr>
              <a:t>filt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22280" y="4473720"/>
            <a:ext cx="21600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10:32:17Z</dcterms:created>
  <dc:creator>DG</dc:creator>
  <dc:description/>
  <dc:language>en-US</dc:language>
  <cp:lastModifiedBy>DG</cp:lastModifiedBy>
  <dcterms:modified xsi:type="dcterms:W3CDTF">2012-02-24T16:05:15Z</dcterms:modified>
  <cp:revision>17</cp:revision>
  <dc:subject/>
  <dc:title>Diapositive 1</dc:title>
</cp:coreProperties>
</file>