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6.wmf" ContentType="image/x-wmf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36B-3DAC-42C2-8016-300F3086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9C3-8CFD-4C18-9D81-470C538E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215-D08A-4654-A26A-EB556F84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FFD-6E0F-492B-8A16-F43ADB1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268-5AF6-459B-AF85-87323939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25C-C9D6-405A-9C8E-1338E24F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5F62-02E6-4DEA-9D4F-2426AEE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2396-7C2B-48C0-996D-554186B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ACCA-6DB0-475F-824F-0B0B4F87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4988-E0BD-4779-BBD4-74E0736A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1A4-777E-4915-ACFA-CDE39A8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053-AB02-40EC-A744-0A5E368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7D48-E298-4795-B21F-AAE2A15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EA3-8F56-4E43-9A25-AD60A84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5EB3-EFAD-4A67-AAEE-EACA9A2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54D8-CE80-4327-9B29-AB3B423B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0A1-F851-43CA-8396-ADF41991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02C-0B8E-488B-8B90-DA80633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3D1-7966-43D4-9939-E16F242D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157-075C-40BD-8FD7-71C191AF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8BE-3E3E-4C3D-9C7C-EAB410B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A9B-DDD4-4CDC-A6C4-48EF11A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655-7B66-4685-A22A-75E0F3A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315-E61D-46EB-896E-461480A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DDE-EB60-4AA9-8BC3-7966A8DBD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B94-DAE2-4987-9D86-29CE572680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Bijouterie ST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" y="3284640"/>
            <a:ext cx="5400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éation et ven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bijoux depuis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3051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Qu’est-ce qu’un PGI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G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: progiciel de gestion intégré (ERP Enterprise Ressource Planning en Anglai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Objectif 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: couvrir l'ensemble des processus d'une entrepr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Base de données unique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sur laquelle s'intègre des modules (gestion commerciale, gestion des immobilisations, gestion comptable et financière, gestion du personnel, gestion de production, gestion de projet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e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GI li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as de coût de lic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Disponibilité du code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Architecture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835280" y="2708280"/>
          <a:ext cx="561636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163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process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3 processus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Vente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Réapprovisionnement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059280" y="3284640"/>
            <a:ext cx="504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059280" y="4221000"/>
            <a:ext cx="504720" cy="5050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24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5015" t="2368" r="15227" b="1819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2460600" cy="4319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1773360"/>
            <a:ext cx="388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réation d’un bracelet compos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tourma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quart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améthys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195640" y="2082960"/>
            <a:ext cx="215640" cy="12236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932360" y="3429000"/>
            <a:ext cx="2448000" cy="1008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2"/>
          <p:cNvSpPr/>
          <p:nvPr/>
        </p:nvSpPr>
        <p:spPr>
          <a:xfrm>
            <a:off x="2627280" y="2457360"/>
            <a:ext cx="2089080" cy="14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67327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236000" y="5013360"/>
            <a:ext cx="1655640" cy="792000"/>
          </a:xfrm>
          <a:prstGeom prst="wedgeRoundRectCallout">
            <a:avLst>
              <a:gd name="adj1" fmla="val -109157"/>
              <a:gd name="adj2" fmla="val -253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B pour Bracelet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 pour « avec des perles »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1 numéro d’ord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1547640" y="3141720"/>
            <a:ext cx="165600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411280" y="170028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2"/>
          <a:stretch/>
        </p:blipFill>
        <p:spPr>
          <a:xfrm>
            <a:off x="534960" y="1916280"/>
            <a:ext cx="2260800" cy="3493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9640" y="3322800"/>
            <a:ext cx="1728720" cy="288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-60480" y="1628640"/>
            <a:ext cx="4272120" cy="198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6096240" cy="44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79640" y="1700280"/>
            <a:ext cx="35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9280" y="3645000"/>
            <a:ext cx="172872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835280" y="2421000"/>
            <a:ext cx="2232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8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6456600" cy="38847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79640" y="170028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Nomencla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2"/>
          <a:stretch/>
        </p:blipFill>
        <p:spPr>
          <a:xfrm>
            <a:off x="179280" y="184932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11"/>
          <p:cNvSpPr/>
          <p:nvPr/>
        </p:nvSpPr>
        <p:spPr>
          <a:xfrm>
            <a:off x="1476360" y="3645000"/>
            <a:ext cx="180036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79280" y="3687840"/>
            <a:ext cx="1728720" cy="46188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1116000" y="3357720"/>
            <a:ext cx="5184720" cy="122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1657440" y="2647800"/>
            <a:ext cx="6010200" cy="1141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40"/>
          <p:cNvSpPr/>
          <p:nvPr/>
        </p:nvSpPr>
        <p:spPr>
          <a:xfrm>
            <a:off x="641520" y="3024360"/>
            <a:ext cx="1858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856480" cy="3522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14"/>
          <p:cNvSpPr/>
          <p:nvPr/>
        </p:nvSpPr>
        <p:spPr>
          <a:xfrm flipV="1">
            <a:off x="2124000" y="3141720"/>
            <a:ext cx="367200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132000" y="90792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528480" y="1965240"/>
            <a:ext cx="1036800" cy="685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23"/>
          <p:cNvSpPr/>
          <p:nvPr/>
        </p:nvSpPr>
        <p:spPr>
          <a:xfrm>
            <a:off x="1508040" y="2427120"/>
            <a:ext cx="6840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1193760" y="3948120"/>
            <a:ext cx="371520" cy="79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25"/>
          <p:cNvSpPr/>
          <p:nvPr/>
        </p:nvSpPr>
        <p:spPr>
          <a:xfrm>
            <a:off x="1284120" y="4408560"/>
            <a:ext cx="8892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1565280" y="3948120"/>
            <a:ext cx="552600" cy="9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27"/>
          <p:cNvSpPr/>
          <p:nvPr/>
        </p:nvSpPr>
        <p:spPr>
          <a:xfrm>
            <a:off x="1846440" y="4443480"/>
            <a:ext cx="10152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1565280" y="3948120"/>
            <a:ext cx="1846080" cy="72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29"/>
          <p:cNvSpPr/>
          <p:nvPr/>
        </p:nvSpPr>
        <p:spPr>
          <a:xfrm>
            <a:off x="2938320" y="4454640"/>
            <a:ext cx="158760" cy="90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30"/>
          <p:cNvSpPr/>
          <p:nvPr/>
        </p:nvSpPr>
        <p:spPr>
          <a:xfrm>
            <a:off x="1565280" y="3948120"/>
            <a:ext cx="146160" cy="126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31"/>
          <p:cNvSpPr/>
          <p:nvPr/>
        </p:nvSpPr>
        <p:spPr>
          <a:xfrm>
            <a:off x="1644480" y="4859280"/>
            <a:ext cx="6696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0" y="1773360"/>
            <a:ext cx="608040" cy="6080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133560" y="182880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iche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88560" y="196524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i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44720" y="21002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é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641520" y="2573280"/>
            <a:ext cx="1847520" cy="1498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41520" y="3822840"/>
            <a:ext cx="1858680" cy="26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1337760" y="3857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940680" y="2843280"/>
            <a:ext cx="116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du coût du bijou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680760" y="3046320"/>
            <a:ext cx="145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coût production dire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81120" y="3262320"/>
            <a:ext cx="163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oto bijou et MAJ fiche-produ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85080" y="348624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tiquettag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82920" y="3632040"/>
            <a:ext cx="136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ation mouvement stock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822240" y="4521240"/>
            <a:ext cx="619200" cy="6206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966960" y="457848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887400" y="471312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012320" y="484812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Oval 50"/>
          <p:cNvSpPr/>
          <p:nvPr/>
        </p:nvSpPr>
        <p:spPr>
          <a:xfrm>
            <a:off x="1846440" y="4476600"/>
            <a:ext cx="731520" cy="73188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048040" y="458964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11960" y="47242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2004480" y="4859280"/>
            <a:ext cx="40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F 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Oval 54"/>
          <p:cNvSpPr/>
          <p:nvPr/>
        </p:nvSpPr>
        <p:spPr>
          <a:xfrm>
            <a:off x="3029040" y="4386240"/>
            <a:ext cx="720720" cy="72072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219480" y="44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ijou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3083400" y="463392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éposé e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151080" y="4770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58"/>
          <p:cNvSpPr/>
          <p:nvPr/>
        </p:nvSpPr>
        <p:spPr>
          <a:xfrm>
            <a:off x="1397160" y="5018040"/>
            <a:ext cx="630000" cy="63036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1450800" y="51530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onnée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1529640" y="528804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ais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28560" y="3068640"/>
            <a:ext cx="1871640" cy="14436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Le système d’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rois dimen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Humaine : des acte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Organisationnelle : des proces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echnologique : un réseau et un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6337440" cy="2278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508720" y="5373720"/>
            <a:ext cx="2735280" cy="431640"/>
          </a:xfrm>
          <a:prstGeom prst="wedgeRoundRectCallout">
            <a:avLst>
              <a:gd name="adj1" fmla="val -78555"/>
              <a:gd name="adj2" fmla="val -54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prix de vente est calculé par le systè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700360" y="184464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Onglet approvisionn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52560" y="1839960"/>
            <a:ext cx="3749400" cy="38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96960" y="3271680"/>
            <a:ext cx="1859040" cy="144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2460600" y="1952640"/>
            <a:ext cx="5207040" cy="14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6092640" cy="3854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Bouton Attac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-3240" y="1827360"/>
            <a:ext cx="3749760" cy="38750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646200" y="3390840"/>
            <a:ext cx="1859040" cy="1573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6877080" y="1905120"/>
            <a:ext cx="1954080" cy="51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Contrôle d’inventaire / Réception des produ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rcRect l="9938" t="10721" r="12629" b="0"/>
          <a:stretch/>
        </p:blipFill>
        <p:spPr>
          <a:xfrm>
            <a:off x="3419640" y="220500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9"/>
          <p:cNvSpPr/>
          <p:nvPr/>
        </p:nvSpPr>
        <p:spPr>
          <a:xfrm>
            <a:off x="2484360" y="3057480"/>
            <a:ext cx="4103640" cy="296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39600" y="1755720"/>
            <a:ext cx="3754440" cy="3444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692280" y="3611520"/>
            <a:ext cx="185868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8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rcRect l="0" t="3027" r="21884" b="0"/>
          <a:stretch/>
        </p:blipFill>
        <p:spPr>
          <a:xfrm>
            <a:off x="4376880" y="-11160"/>
            <a:ext cx="4735440" cy="691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90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175520" cy="431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179280" y="3454560"/>
            <a:ext cx="122400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5435640" y="4724280"/>
            <a:ext cx="1800360" cy="720720"/>
          </a:xfrm>
          <a:prstGeom prst="wedgeRoundRectCallout">
            <a:avLst>
              <a:gd name="adj1" fmla="val -117106"/>
              <a:gd name="adj2" fmla="val -253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lient occasionnel, régulier ou touri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816960" cy="4100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79280" y="3987720"/>
            <a:ext cx="122400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97964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1403280" y="5805360"/>
            <a:ext cx="1944720" cy="360360"/>
          </a:xfrm>
          <a:prstGeom prst="wedgeRoundRectCallout">
            <a:avLst>
              <a:gd name="adj1" fmla="val 119958"/>
              <a:gd name="adj2" fmla="val -221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élection du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1008000" y="2444760"/>
            <a:ext cx="6085080" cy="18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979640" y="2054160"/>
            <a:ext cx="7129440" cy="4519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74500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585720" y="3703680"/>
            <a:ext cx="1800360" cy="1825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340000" y="2984400"/>
            <a:ext cx="3095640" cy="346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1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Réappro des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0" t="1716" r="11125" b="1633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250920" y="2239920"/>
            <a:ext cx="8659800" cy="433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92240" y="167472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Approvisionnements brouill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2"/>
          <a:stretch/>
        </p:blipFill>
        <p:spPr>
          <a:xfrm>
            <a:off x="25560" y="3932280"/>
            <a:ext cx="4698720" cy="280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314440" y="5013360"/>
            <a:ext cx="238932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4356000" y="4581360"/>
            <a:ext cx="2808360" cy="194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27840" cy="447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1773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Ordre de fabrication à démarr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04840" y="3946680"/>
            <a:ext cx="230508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340000" y="3357720"/>
            <a:ext cx="3600360" cy="324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14"/>
          <p:cNvGrpSpPr/>
          <p:nvPr/>
        </p:nvGrpSpPr>
        <p:grpSpPr>
          <a:xfrm>
            <a:off x="179280" y="2565360"/>
            <a:ext cx="3073680" cy="3327480"/>
            <a:chOff x="179280" y="2565360"/>
            <a:chExt cx="3073680" cy="3327480"/>
          </a:xfrm>
        </p:grpSpPr>
        <p:sp>
          <p:nvSpPr>
            <p:cNvPr id="249" name="AutoShape 13"/>
            <p:cNvSpPr/>
            <p:nvPr/>
          </p:nvSpPr>
          <p:spPr>
            <a:xfrm>
              <a:off x="179280" y="2565360"/>
              <a:ext cx="30736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1362240" y="3071880"/>
              <a:ext cx="88560" cy="52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1362240" y="3363840"/>
              <a:ext cx="6660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1249200" y="4735440"/>
              <a:ext cx="1452600" cy="76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2441520" y="5421240"/>
              <a:ext cx="15876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9"/>
            <p:cNvSpPr/>
            <p:nvPr/>
          </p:nvSpPr>
          <p:spPr>
            <a:xfrm>
              <a:off x="1001880" y="2565360"/>
              <a:ext cx="742680" cy="74124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1184400" y="261000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rdre d'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1088280" y="274464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pprovis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1182240" y="2879640"/>
              <a:ext cx="41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ement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1262880" y="301464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émi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179280" y="3521160"/>
              <a:ext cx="274968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79280" y="4572000"/>
              <a:ext cx="274968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1154160" y="4656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793800" y="378000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aration 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273960" y="3981600"/>
              <a:ext cx="143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ancer l'ordre de produc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225720" y="4127400"/>
              <a:ext cx="25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Sélection des composants et obtention de la photo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282600" y="4273560"/>
              <a:ext cx="21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et comptage de chaque composa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263880" y="441972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global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33"/>
            <p:cNvSpPr/>
            <p:nvPr/>
          </p:nvSpPr>
          <p:spPr>
            <a:xfrm>
              <a:off x="2589120" y="5218200"/>
              <a:ext cx="663840" cy="66348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2687400" y="53751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2696040" y="551016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Connecteur droit 33"/>
          <p:cNvSpPr/>
          <p:nvPr/>
        </p:nvSpPr>
        <p:spPr>
          <a:xfrm>
            <a:off x="142920" y="396720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 responsable développement de la SS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’une solution adaptée aux besoins de la bijouter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et paramétrage du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7"/>
          <p:cNvGrpSpPr/>
          <p:nvPr/>
        </p:nvGrpSpPr>
        <p:grpSpPr>
          <a:xfrm>
            <a:off x="1547640" y="1989000"/>
            <a:ext cx="4019760" cy="3408480"/>
            <a:chOff x="1547640" y="1989000"/>
            <a:chExt cx="4019760" cy="3408480"/>
          </a:xfrm>
        </p:grpSpPr>
        <p:sp>
          <p:nvSpPr>
            <p:cNvPr id="273" name="AutoShape 6"/>
            <p:cNvSpPr/>
            <p:nvPr/>
          </p:nvSpPr>
          <p:spPr>
            <a:xfrm>
              <a:off x="1547640" y="1989000"/>
              <a:ext cx="401976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3720960" y="3316320"/>
              <a:ext cx="586080" cy="56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4092480" y="3676680"/>
              <a:ext cx="135000" cy="135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863720" y="4452840"/>
              <a:ext cx="2443320" cy="765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1908000" y="4576680"/>
              <a:ext cx="9072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3247920" y="28782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3348000" y="30243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3356280" y="315900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732120" y="3811680"/>
              <a:ext cx="1136880" cy="1046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3732120" y="4610160"/>
              <a:ext cx="1147680" cy="258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4110120" y="4654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4048560" y="407052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732120" y="4249800"/>
              <a:ext cx="1147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3826440" y="4272120"/>
              <a:ext cx="846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 bijou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3801240" y="4419720"/>
              <a:ext cx="104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levé temps pass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1547640" y="47340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1751760" y="4813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Bijou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672560" y="4948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qué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1652760" y="508320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u rectifi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905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158920" y="1773360"/>
            <a:ext cx="3816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8120" y="1628640"/>
            <a:ext cx="2392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0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 côté administratif et compta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alcule le prix de vente des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s stocks de matières premièr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istée par une secrétaire et une aide-comp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çoit et crée les nouveaux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rée les fiches-produits des nouveaux bijou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Vérifie le travail d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ccueillent les clients au magas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seillent les cl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urent les v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argés du réapprovisionnement des bijoux sous la responsabilité de 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Un réseau informat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360" y="2276640"/>
          <a:ext cx="4176720" cy="36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1767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d’un progiciel de gestion intégré :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rise en charge d’une partie des activités des processus par le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170496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610080" y="3138480"/>
            <a:ext cx="1923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0:30Z</dcterms:created>
  <dc:creator>KC</dc:creator>
  <dc:description/>
  <dc:language>en-US</dc:language>
  <cp:lastModifiedBy>Karine Creyx</cp:lastModifiedBy>
  <dcterms:modified xsi:type="dcterms:W3CDTF">2008-11-12T10:27:16Z</dcterms:modified>
  <cp:revision>59</cp:revision>
  <dc:subject/>
  <dc:title>Diapositive 1</dc:title>
</cp:coreProperties>
</file>