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F9F-6A81-4AF5-87F8-87B7BC73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1680" y="681552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D1B-2CCA-49EA-BC30-7F05F7B6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DF7-C64C-4F03-B230-5BA5E83F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960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52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168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960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52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9BF-BDB2-4182-BDB9-145E08D1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328-819A-457A-BD5C-D7FE88CB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BFF-5DA4-42E0-BF7C-BBD639BA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75D-CEC6-42C2-AB71-194DDBF5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CA6-E4F7-4031-ADEB-0899FD57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1680" y="1006200"/>
            <a:ext cx="1359864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41F-2C9B-4E6F-81A8-EB86D85B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44E-4BDA-49DB-AA50-BCB01067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578-8051-4552-B6CC-CA85CF8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66C-6DEE-4E76-9D02-9B228638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1320" y="10308960"/>
            <a:ext cx="33339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5880" y="10308960"/>
            <a:ext cx="507024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6000" y="10308960"/>
            <a:ext cx="33339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6546A48D-D265-4797-96E0-5033257210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9360" y="6162840"/>
            <a:ext cx="2438640" cy="158472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value-of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ermet d’extraire du document XML le contenu de la balise sélectionnée par l’attribut </a:t>
            </a:r>
            <a:r>
              <a:rPr b="1" lang="fr-FR" sz="1200" spc="-1" strike="noStrike">
                <a:solidFill>
                  <a:srgbClr val="990000"/>
                </a:solidFill>
                <a:latin typeface="Verdana"/>
              </a:rPr>
              <a:t>select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(ici 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")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’est-à-dire, successivement, les noms des modèles d’avions : «123», «123xml» et «123xml Stretch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09360" y="4545000"/>
            <a:ext cx="2438640" cy="140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for-each</a:t>
            </a:r>
            <a:r>
              <a:rPr b="0" lang="fr-FR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it une boucle sur l’ensemble des nœuds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il y en a 3)  en exécutant à chaque boucle les instructions situées avant sa balise de fermeture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lt;/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xsl:for-each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8640" y="1265400"/>
            <a:ext cx="14238360" cy="13172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Principe de la transformation 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Le document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SL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permet d’associer les balises d’un document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ML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à du code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HTML 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dans le but de présenter l’information contenue dans le document XML. Les balises XSL sont associées à l’espace de noms « xsl: » On y trouve aussi des éléments de langage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path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qui permet de définir la position des noeuds en indiquant leur chemin dans l’arborescence XML.  Ici, des modèles d’avions sont présentés dans un tableau HTML. Pour chaque modèle d’avion (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encadré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jaune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) on affiche son nom en gras (balise HTML 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  <a:ea typeface="Arial"/>
              </a:rPr>
              <a:t>b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&gt;). Ensuite, pour chaque caractéristique (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encadré bleu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), on ajoute une ligne (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tr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gt;)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au tableau, en affichant d’abord le nom de la caractéristique (en clair dans le document XSL) dans une première colonne, puis, pour chaque modèle, la valeur de cette caractéristique dans une nouvelle colonne (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  <a:ea typeface="Arial"/>
              </a:rPr>
              <a:t>td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&gt;). Ainsi de suite pour toutes les caractéristiques</a:t>
            </a:r>
            <a:r>
              <a:rPr b="0" lang="fr-FR" sz="12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9240" y="185760"/>
            <a:ext cx="5862960" cy="9147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ormation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 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09360" y="2921040"/>
            <a:ext cx="2438640" cy="14328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Quelques balises XSLT</a:t>
            </a: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template</a:t>
            </a:r>
            <a:r>
              <a:rPr b="0" lang="fr-FR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contient les transformations à appliquer quand le nœud spécifié par l’attribut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 match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ici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odels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) est rencontré dans le code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55560" y="2921040"/>
            <a:ext cx="5616360" cy="4720680"/>
            <a:chOff x="655560" y="2921040"/>
            <a:chExt cx="5616360" cy="4720680"/>
          </a:xfrm>
        </p:grpSpPr>
        <p:sp>
          <p:nvSpPr>
            <p:cNvPr id="47" name=""/>
            <p:cNvSpPr/>
            <p:nvPr/>
          </p:nvSpPr>
          <p:spPr>
            <a:xfrm>
              <a:off x="655560" y="2921040"/>
              <a:ext cx="5616360" cy="47206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XML contenant les informations sur des modèles d’avions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  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910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52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ZeroFuel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55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ZeroFuel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EngineOffering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E, P+W, and R-R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EngineOffering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FuelCapacity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0305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FuelCapacity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CruiseM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0.855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CruiseM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ssenger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16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ssenger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DesignRang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75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DesignRang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LowerHoldVolu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876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LowerHoldVolu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llet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llet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3xm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43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85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     …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74320" y="3835440"/>
              <a:ext cx="1760040" cy="2286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0640" y="3606840"/>
              <a:ext cx="732600" cy="1998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7640" y="6683400"/>
              <a:ext cx="1922760" cy="2286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2360" y="6468840"/>
              <a:ext cx="732600" cy="2286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7920" y="3386160"/>
              <a:ext cx="976680" cy="22860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929200" y="103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488280" y="2921040"/>
            <a:ext cx="5914800" cy="4606200"/>
            <a:chOff x="6488280" y="2921040"/>
            <a:chExt cx="5914800" cy="4606200"/>
          </a:xfrm>
        </p:grpSpPr>
        <p:sp>
          <p:nvSpPr>
            <p:cNvPr id="55" name=""/>
            <p:cNvSpPr/>
            <p:nvPr/>
          </p:nvSpPr>
          <p:spPr>
            <a:xfrm>
              <a:off x="6488280" y="2921040"/>
              <a:ext cx="5914800" cy="4606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XSL qui présente les modèles d’avions dans un tablea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template mat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able widt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rincipal Characteristic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 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0808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value-of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 /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0C0C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. Takeoff 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 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value-of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 /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0C0C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. Landing 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926560" y="4506840"/>
              <a:ext cx="1647720" cy="228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78640" y="4292640"/>
              <a:ext cx="1981440" cy="2286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64240" y="3409920"/>
              <a:ext cx="2362320" cy="22860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61000" y="3857760"/>
              <a:ext cx="5688000" cy="151272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61000" y="5513400"/>
              <a:ext cx="5688000" cy="1152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785000" y="8105760"/>
            <a:ext cx="7293240" cy="2514600"/>
            <a:chOff x="7785000" y="8105760"/>
            <a:chExt cx="7293240" cy="25146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rcRect l="0" t="0" r="0" b="22742"/>
            <a:stretch/>
          </p:blipFill>
          <p:spPr>
            <a:xfrm>
              <a:off x="7785000" y="8486640"/>
              <a:ext cx="729324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856640" y="8610480"/>
              <a:ext cx="7129440" cy="2160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32160" y="8151840"/>
              <a:ext cx="330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ffichage obtenu dans la page 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39000" y="8105760"/>
              <a:ext cx="7239240" cy="25146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56640" y="8897760"/>
              <a:ext cx="7129440" cy="21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529000" y="8034480"/>
            <a:ext cx="3886200" cy="2831760"/>
            <a:chOff x="2529000" y="8034480"/>
            <a:chExt cx="3886200" cy="2831760"/>
          </a:xfrm>
        </p:grpSpPr>
        <p:sp>
          <p:nvSpPr>
            <p:cNvPr id="68" name=""/>
            <p:cNvSpPr/>
            <p:nvPr/>
          </p:nvSpPr>
          <p:spPr>
            <a:xfrm>
              <a:off x="2529000" y="8034480"/>
              <a:ext cx="3886200" cy="28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able width="100%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r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&gt;Principal Characteristics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&lt;/b&gt;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xml&lt;/b&gt;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xml Stretch&lt;/b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/tr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r bgcolor="C0C0C0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&gt;Max. Takeoff Weight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1280" y="8615520"/>
              <a:ext cx="3581280" cy="129204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8120" y="8107200"/>
              <a:ext cx="196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HTML résul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1920" y="10050480"/>
              <a:ext cx="3581280" cy="5713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192640" y="6378480"/>
            <a:ext cx="793800" cy="2158920"/>
          </a:xfrm>
          <a:prstGeom prst="downArrow">
            <a:avLst>
              <a:gd name="adj1" fmla="val 50000"/>
              <a:gd name="adj2" fmla="val 679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rot="16200000">
            <a:off x="6163920" y="6846120"/>
            <a:ext cx="934920" cy="1584360"/>
          </a:xfrm>
          <a:custGeom>
            <a:avLst/>
            <a:gdLst>
              <a:gd name="textAreaLeft" fmla="*/ 420120 w 934920"/>
              <a:gd name="textAreaRight" fmla="*/ 769320 w 934920"/>
              <a:gd name="textAreaTop" fmla="*/ 992880 h 1584360"/>
              <a:gd name="textAreaBottom" fmla="*/ 13046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7353"/>
                </a:moveTo>
                <a:lnTo>
                  <a:pt x="13536" y="17353"/>
                </a:lnTo>
                <a:lnTo>
                  <a:pt x="13536" y="9719"/>
                </a:lnTo>
                <a:lnTo>
                  <a:pt x="9719" y="9719"/>
                </a:lnTo>
                <a:lnTo>
                  <a:pt x="15660" y="0"/>
                </a:lnTo>
                <a:lnTo>
                  <a:pt x="21600" y="9719"/>
                </a:lnTo>
                <a:lnTo>
                  <a:pt x="17783" y="9719"/>
                </a:lnTo>
                <a:lnTo>
                  <a:pt x="177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4744800" y="711900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9:31:09Z</dcterms:created>
  <dc:creator>Réseau Certa</dc:creator>
  <dc:description/>
  <dc:language>en-US</dc:language>
  <cp:lastModifiedBy>Eric Deschaintre</cp:lastModifiedBy>
  <dcterms:modified xsi:type="dcterms:W3CDTF">2004-09-06T09:55:57Z</dcterms:modified>
  <cp:revision>97</cp:revision>
  <dc:subject/>
  <dc:title>Présentation PowerPoint</dc:title>
</cp:coreProperties>
</file>