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1C7D-F8EA-45A0-82AC-DEFCC4472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B51C-BC35-413E-AE98-274817C1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A24B-1897-4CB1-9CEA-B36E6448E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9B0E-9C2F-4189-93BF-14676880B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4A94-9BDA-468E-9943-865D820B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A45F-EDE2-4E48-8D82-73F2E635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6237-6449-4575-9E68-DD8D56B1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58A8-9997-48B2-B9E5-4C1EF116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D1A6-2B18-4D85-9669-6C3A8810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9AE7-C91D-4DB8-8F06-ACFF4387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FF4B-6ADF-421F-9198-E27A2DB9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9858-2D27-4C0F-9713-5FCEA924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56AF-4177-4F03-AAB2-439629679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560000" cy="521352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1835280" y="1773360"/>
            <a:ext cx="2016000" cy="3095640"/>
            <a:chOff x="1835280" y="1773360"/>
            <a:chExt cx="2016000" cy="3095640"/>
          </a:xfrm>
        </p:grpSpPr>
        <p:sp>
          <p:nvSpPr>
            <p:cNvPr id="44" name=""/>
            <p:cNvSpPr/>
            <p:nvPr/>
          </p:nvSpPr>
          <p:spPr>
            <a:xfrm>
              <a:off x="1835280" y="1773360"/>
              <a:ext cx="1657080" cy="1295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43280" y="1844640"/>
              <a:ext cx="792000" cy="115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3635280" y="3789360"/>
              <a:ext cx="216000" cy="93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635280" y="4724280"/>
              <a:ext cx="73080" cy="144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924360" y="1773360"/>
            <a:ext cx="863280" cy="3095640"/>
            <a:chOff x="3924360" y="1773360"/>
            <a:chExt cx="863280" cy="3095640"/>
          </a:xfrm>
        </p:grpSpPr>
        <p:sp>
          <p:nvSpPr>
            <p:cNvPr id="49" name=""/>
            <p:cNvSpPr/>
            <p:nvPr/>
          </p:nvSpPr>
          <p:spPr>
            <a:xfrm>
              <a:off x="3924360" y="1773360"/>
              <a:ext cx="0" cy="1224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4140000" y="1844640"/>
              <a:ext cx="647640" cy="1152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24360" y="3860640"/>
              <a:ext cx="0" cy="10083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118980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LAN1 - 10.1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488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LAN2 - 10.2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1452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VLAN3 - 10.3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995640" y="1844640"/>
            <a:ext cx="3024000" cy="3024360"/>
            <a:chOff x="3995640" y="1844640"/>
            <a:chExt cx="3024000" cy="3024360"/>
          </a:xfrm>
        </p:grpSpPr>
        <p:sp>
          <p:nvSpPr>
            <p:cNvPr id="56" name=""/>
            <p:cNvSpPr/>
            <p:nvPr/>
          </p:nvSpPr>
          <p:spPr>
            <a:xfrm flipH="1">
              <a:off x="4427640" y="1844640"/>
              <a:ext cx="1512720" cy="1152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716000" y="1844640"/>
              <a:ext cx="2303640" cy="1152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95640" y="3860640"/>
              <a:ext cx="216000" cy="86364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4140360" y="4653000"/>
              <a:ext cx="71280" cy="21600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702520" y="458136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.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64000" y="4869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0.2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13800" y="458136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0.3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53040" y="364500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UCU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sserelle par défa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4360" y="4149720"/>
            <a:ext cx="717552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417080" cy="51926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835280" y="1773360"/>
            <a:ext cx="1800000" cy="1295280"/>
            <a:chOff x="1835280" y="1773360"/>
            <a:chExt cx="1800000" cy="1295280"/>
          </a:xfrm>
        </p:grpSpPr>
        <p:sp>
          <p:nvSpPr>
            <p:cNvPr id="68" name=""/>
            <p:cNvSpPr/>
            <p:nvPr/>
          </p:nvSpPr>
          <p:spPr>
            <a:xfrm>
              <a:off x="1835280" y="1773360"/>
              <a:ext cx="1657080" cy="1295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43280" y="1844640"/>
              <a:ext cx="792000" cy="115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924360" y="1773360"/>
            <a:ext cx="863280" cy="1224000"/>
            <a:chOff x="3924360" y="1773360"/>
            <a:chExt cx="863280" cy="1224000"/>
          </a:xfrm>
        </p:grpSpPr>
        <p:sp>
          <p:nvSpPr>
            <p:cNvPr id="71" name=""/>
            <p:cNvSpPr/>
            <p:nvPr/>
          </p:nvSpPr>
          <p:spPr>
            <a:xfrm>
              <a:off x="3924360" y="1773360"/>
              <a:ext cx="0" cy="1224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4140000" y="1844640"/>
              <a:ext cx="647640" cy="1152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18980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LAN1 - 10.1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9488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LAN2 - 10.2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1452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VLAN3 - 10.3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427640" y="1844640"/>
            <a:ext cx="2592000" cy="1152720"/>
            <a:chOff x="4427640" y="1844640"/>
            <a:chExt cx="2592000" cy="1152720"/>
          </a:xfrm>
        </p:grpSpPr>
        <p:sp>
          <p:nvSpPr>
            <p:cNvPr id="77" name=""/>
            <p:cNvSpPr/>
            <p:nvPr/>
          </p:nvSpPr>
          <p:spPr>
            <a:xfrm flipH="1">
              <a:off x="4427640" y="1844640"/>
              <a:ext cx="1512720" cy="1152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4716000" y="1844640"/>
              <a:ext cx="2303640" cy="1152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924360" y="3789360"/>
            <a:ext cx="0" cy="1077840"/>
            <a:chOff x="3924360" y="3789360"/>
            <a:chExt cx="0" cy="1077840"/>
          </a:xfrm>
        </p:grpSpPr>
        <p:sp>
          <p:nvSpPr>
            <p:cNvPr id="80" name=""/>
            <p:cNvSpPr/>
            <p:nvPr/>
          </p:nvSpPr>
          <p:spPr>
            <a:xfrm>
              <a:off x="3924360" y="3789360"/>
              <a:ext cx="0" cy="3589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24360" y="4149720"/>
              <a:ext cx="0" cy="35892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924360" y="4508640"/>
              <a:ext cx="0" cy="358560"/>
            </a:xfrm>
            <a:prstGeom prst="line">
              <a:avLst/>
            </a:prstGeom>
            <a:ln w="63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702520" y="458136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.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64000" y="4869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0.2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42520" y="450864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0.3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77640" y="409716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1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24320" y="386064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UCU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sserelle par défa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68360" y="4437000"/>
            <a:ext cx="784872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417080" cy="519264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3924360" y="3573360"/>
            <a:ext cx="2734920" cy="1295640"/>
            <a:chOff x="3924360" y="3573360"/>
            <a:chExt cx="2734920" cy="1295640"/>
          </a:xfrm>
        </p:grpSpPr>
        <p:sp>
          <p:nvSpPr>
            <p:cNvPr id="91" name=""/>
            <p:cNvSpPr/>
            <p:nvPr/>
          </p:nvSpPr>
          <p:spPr>
            <a:xfrm>
              <a:off x="3924360" y="3789360"/>
              <a:ext cx="0" cy="107964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85600" y="3573360"/>
              <a:ext cx="217368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2918880" y="630864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VLAN4 - 10.4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1280" y="5516640"/>
            <a:ext cx="7296120" cy="1152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68360" y="4005360"/>
            <a:ext cx="7853400" cy="2625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997080" y="4508640"/>
            <a:ext cx="25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10.4.0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Passerelle : 10.4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8980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LAN1 - 10.1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488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LAN2 - 10.2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452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VLAN3 - 10.3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869440" y="270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.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372360" y="3068640"/>
            <a:ext cx="1171440" cy="88596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1835280" y="1773360"/>
            <a:ext cx="4752720" cy="1368360"/>
            <a:chOff x="1835280" y="1773360"/>
            <a:chExt cx="4752720" cy="1368360"/>
          </a:xfrm>
        </p:grpSpPr>
        <p:sp>
          <p:nvSpPr>
            <p:cNvPr id="104" name=""/>
            <p:cNvSpPr/>
            <p:nvPr/>
          </p:nvSpPr>
          <p:spPr>
            <a:xfrm>
              <a:off x="1835280" y="1773360"/>
              <a:ext cx="1657080" cy="1295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43280" y="1844640"/>
              <a:ext cx="792000" cy="115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32360" y="3141720"/>
              <a:ext cx="165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5798160" y="36450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10.4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924360" y="1773360"/>
            <a:ext cx="2592360" cy="1511280"/>
            <a:chOff x="3924360" y="1773360"/>
            <a:chExt cx="2592360" cy="1511280"/>
          </a:xfrm>
        </p:grpSpPr>
        <p:sp>
          <p:nvSpPr>
            <p:cNvPr id="109" name=""/>
            <p:cNvSpPr/>
            <p:nvPr/>
          </p:nvSpPr>
          <p:spPr>
            <a:xfrm>
              <a:off x="3924360" y="1773360"/>
              <a:ext cx="0" cy="1224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4140000" y="1844640"/>
              <a:ext cx="647640" cy="1152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88000" y="3284640"/>
              <a:ext cx="17287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427640" y="1844640"/>
            <a:ext cx="2592000" cy="1584360"/>
            <a:chOff x="4427640" y="1844640"/>
            <a:chExt cx="2592000" cy="1584360"/>
          </a:xfrm>
        </p:grpSpPr>
        <p:sp>
          <p:nvSpPr>
            <p:cNvPr id="113" name=""/>
            <p:cNvSpPr/>
            <p:nvPr/>
          </p:nvSpPr>
          <p:spPr>
            <a:xfrm flipH="1">
              <a:off x="4427640" y="1844640"/>
              <a:ext cx="1512720" cy="1152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4716000" y="1844640"/>
              <a:ext cx="2303640" cy="1152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4643280" y="3429000"/>
              <a:ext cx="1944720" cy="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7236000" y="2997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0.2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10880" y="335772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0.3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417080" cy="5192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924360" y="3789360"/>
            <a:ext cx="0" cy="107964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97440" y="4508640"/>
            <a:ext cx="255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10.4.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passerelle : 10.4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18880" y="630864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VLAN4 - 10.4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11280" y="5516640"/>
            <a:ext cx="7296120" cy="115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900000" y="3933720"/>
            <a:ext cx="6813720" cy="2568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8980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LAN1 - 10.1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9488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LAN2 - 10.2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52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VLAN3 - 10.3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34880" y="270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.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6372360" y="3068640"/>
            <a:ext cx="1171440" cy="88596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1835280" y="1773360"/>
            <a:ext cx="1800000" cy="1295280"/>
            <a:chOff x="1835280" y="1773360"/>
            <a:chExt cx="1800000" cy="1295280"/>
          </a:xfrm>
        </p:grpSpPr>
        <p:sp>
          <p:nvSpPr>
            <p:cNvPr id="131" name=""/>
            <p:cNvSpPr/>
            <p:nvPr/>
          </p:nvSpPr>
          <p:spPr>
            <a:xfrm>
              <a:off x="1835280" y="1773360"/>
              <a:ext cx="1657080" cy="1295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43280" y="1844640"/>
              <a:ext cx="792000" cy="115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7095240" y="3716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10.4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924360" y="1773360"/>
            <a:ext cx="863280" cy="1224000"/>
            <a:chOff x="3924360" y="1773360"/>
            <a:chExt cx="863280" cy="1224000"/>
          </a:xfrm>
        </p:grpSpPr>
        <p:sp>
          <p:nvSpPr>
            <p:cNvPr id="135" name=""/>
            <p:cNvSpPr/>
            <p:nvPr/>
          </p:nvSpPr>
          <p:spPr>
            <a:xfrm>
              <a:off x="3924360" y="1773360"/>
              <a:ext cx="0" cy="1224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140000" y="1844640"/>
              <a:ext cx="647640" cy="1152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427640" y="1844640"/>
            <a:ext cx="2592000" cy="1152720"/>
            <a:chOff x="4427640" y="1844640"/>
            <a:chExt cx="2592000" cy="1152720"/>
          </a:xfrm>
        </p:grpSpPr>
        <p:sp>
          <p:nvSpPr>
            <p:cNvPr id="138" name=""/>
            <p:cNvSpPr/>
            <p:nvPr/>
          </p:nvSpPr>
          <p:spPr>
            <a:xfrm flipH="1">
              <a:off x="4427640" y="1844640"/>
              <a:ext cx="1512720" cy="1152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4716000" y="1844640"/>
              <a:ext cx="2303640" cy="1152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427640" y="3573360"/>
            <a:ext cx="2089080" cy="0"/>
            <a:chOff x="4427640" y="3573360"/>
            <a:chExt cx="2089080" cy="0"/>
          </a:xfrm>
        </p:grpSpPr>
        <p:sp>
          <p:nvSpPr>
            <p:cNvPr id="141" name=""/>
            <p:cNvSpPr/>
            <p:nvPr/>
          </p:nvSpPr>
          <p:spPr>
            <a:xfrm>
              <a:off x="4427640" y="3573360"/>
              <a:ext cx="431640" cy="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59280" y="3573360"/>
              <a:ext cx="504720" cy="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5363640" y="3573360"/>
              <a:ext cx="576360" cy="0"/>
            </a:xfrm>
            <a:prstGeom prst="line">
              <a:avLst/>
            </a:prstGeom>
            <a:ln w="63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40360" y="3573360"/>
              <a:ext cx="576360" cy="0"/>
            </a:xfrm>
            <a:prstGeom prst="line">
              <a:avLst/>
            </a:prstGeom>
            <a:ln w="63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7164360" y="2997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0.2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10880" y="335772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0.3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30000" y="32320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1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417080" cy="51926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03600" y="3860640"/>
            <a:ext cx="236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tateur-rou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3789360"/>
            <a:ext cx="0" cy="107964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97440" y="4508640"/>
            <a:ext cx="255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10.4.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passerelle : 10.4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18880" y="630864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VLAN4 - 10.4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11280" y="5516640"/>
            <a:ext cx="7296120" cy="1152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11280" y="3933720"/>
            <a:ext cx="7235640" cy="27464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8980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LAN1 - 10.1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9488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LAN2 - 10.2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452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VLAN3 - 10.3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6160" y="299736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lan1 - 10.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835280" y="1773360"/>
            <a:ext cx="1800000" cy="1295280"/>
            <a:chOff x="1835280" y="1773360"/>
            <a:chExt cx="1800000" cy="1295280"/>
          </a:xfrm>
        </p:grpSpPr>
        <p:sp>
          <p:nvSpPr>
            <p:cNvPr id="161" name=""/>
            <p:cNvSpPr/>
            <p:nvPr/>
          </p:nvSpPr>
          <p:spPr>
            <a:xfrm>
              <a:off x="1835280" y="1773360"/>
              <a:ext cx="1657080" cy="1295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43280" y="1844640"/>
              <a:ext cx="792000" cy="115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422160" y="35002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Vlan4 - 10.4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924360" y="1773360"/>
            <a:ext cx="863280" cy="1224000"/>
            <a:chOff x="3924360" y="1773360"/>
            <a:chExt cx="863280" cy="1224000"/>
          </a:xfrm>
        </p:grpSpPr>
        <p:sp>
          <p:nvSpPr>
            <p:cNvPr id="165" name=""/>
            <p:cNvSpPr/>
            <p:nvPr/>
          </p:nvSpPr>
          <p:spPr>
            <a:xfrm>
              <a:off x="3924360" y="1773360"/>
              <a:ext cx="0" cy="1224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4140000" y="1844640"/>
              <a:ext cx="647640" cy="1152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27640" y="1844640"/>
            <a:ext cx="2592000" cy="1152720"/>
            <a:chOff x="4427640" y="1844640"/>
            <a:chExt cx="2592000" cy="1152720"/>
          </a:xfrm>
        </p:grpSpPr>
        <p:sp>
          <p:nvSpPr>
            <p:cNvPr id="168" name=""/>
            <p:cNvSpPr/>
            <p:nvPr/>
          </p:nvSpPr>
          <p:spPr>
            <a:xfrm flipH="1">
              <a:off x="4427640" y="1844640"/>
              <a:ext cx="1512720" cy="1152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4716000" y="1844640"/>
              <a:ext cx="2303640" cy="1152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635280" y="249228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lan2 10.2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5800" y="29242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Vlan3 - 10.3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417080" cy="51926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835280" y="1773360"/>
            <a:ext cx="1800000" cy="1295280"/>
            <a:chOff x="1835280" y="1773360"/>
            <a:chExt cx="1800000" cy="1295280"/>
          </a:xfrm>
        </p:grpSpPr>
        <p:sp>
          <p:nvSpPr>
            <p:cNvPr id="175" name=""/>
            <p:cNvSpPr/>
            <p:nvPr/>
          </p:nvSpPr>
          <p:spPr>
            <a:xfrm>
              <a:off x="1835280" y="1773360"/>
              <a:ext cx="1657080" cy="1295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43280" y="1844640"/>
              <a:ext cx="792000" cy="115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924360" y="1773360"/>
            <a:ext cx="863280" cy="1224000"/>
            <a:chOff x="3924360" y="1773360"/>
            <a:chExt cx="863280" cy="1224000"/>
          </a:xfrm>
        </p:grpSpPr>
        <p:sp>
          <p:nvSpPr>
            <p:cNvPr id="178" name=""/>
            <p:cNvSpPr/>
            <p:nvPr/>
          </p:nvSpPr>
          <p:spPr>
            <a:xfrm>
              <a:off x="3924360" y="1773360"/>
              <a:ext cx="0" cy="1224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4140000" y="1844640"/>
              <a:ext cx="647640" cy="1152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1189800" y="9079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LA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94880" y="9079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LA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4160" y="9079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VLA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427640" y="1844640"/>
            <a:ext cx="2592000" cy="1152720"/>
            <a:chOff x="4427640" y="1844640"/>
            <a:chExt cx="2592000" cy="1152720"/>
          </a:xfrm>
        </p:grpSpPr>
        <p:sp>
          <p:nvSpPr>
            <p:cNvPr id="184" name=""/>
            <p:cNvSpPr/>
            <p:nvPr/>
          </p:nvSpPr>
          <p:spPr>
            <a:xfrm flipH="1">
              <a:off x="4427640" y="1844640"/>
              <a:ext cx="1512720" cy="1152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716000" y="1844640"/>
              <a:ext cx="2303640" cy="1152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5224320" y="3500280"/>
            <a:ext cx="33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ul réseau IP 10.1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UCU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sserelle par défa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94880" y="6308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VLA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995640" y="3789360"/>
            <a:ext cx="0" cy="1079640"/>
            <a:chOff x="3995640" y="3789360"/>
            <a:chExt cx="0" cy="1079640"/>
          </a:xfrm>
        </p:grpSpPr>
        <p:sp>
          <p:nvSpPr>
            <p:cNvPr id="189" name=""/>
            <p:cNvSpPr/>
            <p:nvPr/>
          </p:nvSpPr>
          <p:spPr>
            <a:xfrm>
              <a:off x="3995640" y="3789360"/>
              <a:ext cx="0" cy="36036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995640" y="4149720"/>
              <a:ext cx="0" cy="4316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95640" y="4508640"/>
              <a:ext cx="0" cy="360360"/>
            </a:xfrm>
            <a:prstGeom prst="line">
              <a:avLst/>
            </a:prstGeom>
            <a:ln w="633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3924360" y="3789360"/>
            <a:ext cx="0" cy="107964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763640" y="1844280"/>
            <a:ext cx="5329440" cy="1224360"/>
            <a:chOff x="1763640" y="1844280"/>
            <a:chExt cx="5329440" cy="1224360"/>
          </a:xfrm>
        </p:grpSpPr>
        <p:sp>
          <p:nvSpPr>
            <p:cNvPr id="194" name=""/>
            <p:cNvSpPr/>
            <p:nvPr/>
          </p:nvSpPr>
          <p:spPr>
            <a:xfrm flipH="1" flipV="1">
              <a:off x="1763640" y="1844640"/>
              <a:ext cx="1656000" cy="122400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2771280" y="1844640"/>
              <a:ext cx="792360" cy="115272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3851280" y="1844280"/>
              <a:ext cx="0" cy="107964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067280" y="1844640"/>
              <a:ext cx="649080" cy="115272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4427640" y="1844280"/>
              <a:ext cx="1368360" cy="107964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4859280" y="1844640"/>
              <a:ext cx="2233800" cy="115272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142520" y="429264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ffu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s vl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, 2 e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02880" y="256536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Diffuse le vla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39640" y="4149720"/>
            <a:ext cx="810900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417080" cy="519264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835280" y="1773360"/>
            <a:ext cx="2089080" cy="3095640"/>
            <a:chOff x="1835280" y="1773360"/>
            <a:chExt cx="2089080" cy="3095640"/>
          </a:xfrm>
        </p:grpSpPr>
        <p:sp>
          <p:nvSpPr>
            <p:cNvPr id="206" name=""/>
            <p:cNvSpPr/>
            <p:nvPr/>
          </p:nvSpPr>
          <p:spPr>
            <a:xfrm>
              <a:off x="1835280" y="1773360"/>
              <a:ext cx="2089080" cy="151128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24360" y="3284640"/>
              <a:ext cx="0" cy="158436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43280" y="1773360"/>
            <a:ext cx="1081080" cy="1584360"/>
            <a:chOff x="2843280" y="1773360"/>
            <a:chExt cx="1081080" cy="1584360"/>
          </a:xfrm>
        </p:grpSpPr>
        <p:sp>
          <p:nvSpPr>
            <p:cNvPr id="209" name=""/>
            <p:cNvSpPr/>
            <p:nvPr/>
          </p:nvSpPr>
          <p:spPr>
            <a:xfrm>
              <a:off x="2843280" y="1773360"/>
              <a:ext cx="1081080" cy="158436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924360" y="1844640"/>
              <a:ext cx="0" cy="151308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2987640" y="2133720"/>
            <a:ext cx="1223640" cy="1008000"/>
            <a:chOff x="2987640" y="2133720"/>
            <a:chExt cx="1223640" cy="1008000"/>
          </a:xfrm>
        </p:grpSpPr>
        <p:sp>
          <p:nvSpPr>
            <p:cNvPr id="212" name=""/>
            <p:cNvSpPr/>
            <p:nvPr/>
          </p:nvSpPr>
          <p:spPr>
            <a:xfrm flipH="1">
              <a:off x="3131640" y="2133720"/>
              <a:ext cx="1079640" cy="100800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flipV="1">
              <a:off x="2987640" y="2204640"/>
              <a:ext cx="1152720" cy="86364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189440" y="263700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fic inter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916360" y="2728800"/>
            <a:ext cx="4373640" cy="412920"/>
            <a:chOff x="2916360" y="2728800"/>
            <a:chExt cx="4373640" cy="412920"/>
          </a:xfrm>
        </p:grpSpPr>
        <p:sp>
          <p:nvSpPr>
            <p:cNvPr id="216" name=""/>
            <p:cNvSpPr/>
            <p:nvPr/>
          </p:nvSpPr>
          <p:spPr>
            <a:xfrm>
              <a:off x="2916360" y="2781360"/>
              <a:ext cx="2447640" cy="360360"/>
            </a:xfrm>
            <a:prstGeom prst="ellipse">
              <a:avLst/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46000" y="272880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Arial"/>
                </a:rPr>
                <a:t>Ports « isolated 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694880" y="407664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fic autoris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635280" y="3645000"/>
            <a:ext cx="3040200" cy="388800"/>
            <a:chOff x="3635280" y="3645000"/>
            <a:chExt cx="3040200" cy="388800"/>
          </a:xfrm>
        </p:grpSpPr>
        <p:sp>
          <p:nvSpPr>
            <p:cNvPr id="220" name=""/>
            <p:cNvSpPr/>
            <p:nvPr/>
          </p:nvSpPr>
          <p:spPr>
            <a:xfrm>
              <a:off x="3635280" y="3645000"/>
              <a:ext cx="576360" cy="360360"/>
            </a:xfrm>
            <a:prstGeom prst="ellipse">
              <a:avLst/>
            </a:prstGeom>
            <a:noFill/>
            <a:ln w="63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338360" y="366552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8000"/>
                  </a:solidFill>
                  <a:latin typeface="Arial"/>
                </a:rPr>
                <a:t>Port « promiscuous 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5153040" y="4076640"/>
            <a:ext cx="333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ul V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ul réseau IP 10.1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UCU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sserelle par défa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68360" y="4149720"/>
            <a:ext cx="78278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417080" cy="519264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703600" y="907920"/>
            <a:ext cx="35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VLAN1 « protected » 10.1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18880" y="630864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LAN2 - 10.2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34520" y="328464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lan1 - 10.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32360" y="3213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Arial"/>
              </a:rPr>
              <a:t>Vlan2 - 10.2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58880" y="4653000"/>
            <a:ext cx="22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0.2.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sserelle : 10.2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03600" y="3860640"/>
            <a:ext cx="236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tateur-rou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835280" y="1773360"/>
            <a:ext cx="5184720" cy="1295280"/>
            <a:chOff x="1835280" y="1773360"/>
            <a:chExt cx="5184720" cy="1295280"/>
          </a:xfrm>
        </p:grpSpPr>
        <p:sp>
          <p:nvSpPr>
            <p:cNvPr id="233" name=""/>
            <p:cNvSpPr/>
            <p:nvPr/>
          </p:nvSpPr>
          <p:spPr>
            <a:xfrm>
              <a:off x="1835280" y="1773360"/>
              <a:ext cx="1657080" cy="1295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43280" y="1844640"/>
              <a:ext cx="792000" cy="115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24360" y="1844640"/>
              <a:ext cx="0" cy="1079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4211280" y="1844640"/>
              <a:ext cx="576360" cy="1079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4500720" y="1844640"/>
              <a:ext cx="1366560" cy="1079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4788000" y="1844640"/>
              <a:ext cx="2232000" cy="1079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3924360" y="3789360"/>
            <a:ext cx="0" cy="1079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240" y="4437000"/>
            <a:ext cx="31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ègles de filtrage 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UC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39640" y="3860640"/>
            <a:ext cx="7483680" cy="25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19:55:28Z</dcterms:created>
  <dc:creator>Daniel Regnier</dc:creator>
  <dc:description/>
  <dc:language>en-US</dc:language>
  <cp:lastModifiedBy>lycee paul Claudel</cp:lastModifiedBy>
  <dcterms:modified xsi:type="dcterms:W3CDTF">2011-01-26T14:53:42Z</dcterms:modified>
  <cp:revision>30</cp:revision>
  <dc:subject/>
  <dc:title>Exonet</dc:title>
</cp:coreProperties>
</file>